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3E6-0C2D-4A85-9121-59816052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FCAB-18EE-4EBC-91D3-BA55AC3F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BDBE-FB58-443C-8AC7-7F2809CA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FBEA-8A43-42ED-96A5-902B7EDA8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CB60F-06DA-4636-8C3A-70486066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54D3-09FF-4265-9267-642FB5CB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99C6-AAC6-4F08-B440-02DECE7CB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F4A4-AAE7-4052-9309-852BCADD1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3328-5598-432A-AFB1-436D9C9A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1F5E-9791-483A-B62F-E484AA46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218A-C4C7-4C5C-8B06-0758E10A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F925-FF97-45BE-987A-12B73AB0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BA07F-C105-4263-AE16-1E0A33B4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0789-0893-46EC-9129-8B9E81B5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EA31-BE90-47EE-AFC0-6EA8554A5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0A43-4717-43BC-8B1A-E8CE014C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6D76B-E426-4FB0-99E7-10513DC5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2A1F-21A2-45DA-83C1-84FF7238B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6A4-9607-4378-AD7F-F6A9124A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D55-E174-4130-912B-6A593B8E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096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365C-213F-4EFB-9326-AE6BAE94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385-6C5B-4C46-AB2B-6333FF63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1CE0-4692-4747-8E57-1FA8281E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692D-E354-420D-BDCF-F845411E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600"/>
            <a:ext cx="2962800" cy="3361680"/>
            <a:chOff x="6273360" y="-21600"/>
            <a:chExt cx="2962800" cy="3361680"/>
          </a:xfrm>
        </p:grpSpPr>
        <p:grpSp>
          <p:nvGrpSpPr>
            <p:cNvPr id="1" name=""/>
            <p:cNvGrpSpPr/>
            <p:nvPr/>
          </p:nvGrpSpPr>
          <p:grpSpPr>
            <a:xfrm>
              <a:off x="7567560" y="2500200"/>
              <a:ext cx="1005120" cy="754200"/>
              <a:chOff x="7567560" y="2500200"/>
              <a:chExt cx="1005120" cy="754200"/>
            </a:xfrm>
          </p:grpSpPr>
          <p:sp>
            <p:nvSpPr>
              <p:cNvPr id="2" name=""/>
              <p:cNvSpPr/>
              <p:nvPr/>
            </p:nvSpPr>
            <p:spPr>
              <a:xfrm>
                <a:off x="7567560" y="2500200"/>
                <a:ext cx="100512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920" y="282888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7960" y="1442880"/>
              <a:ext cx="1004760" cy="754200"/>
              <a:chOff x="7797960" y="1442880"/>
              <a:chExt cx="1004760" cy="754200"/>
            </a:xfrm>
          </p:grpSpPr>
          <p:sp>
            <p:nvSpPr>
              <p:cNvPr id="5" name=""/>
              <p:cNvSpPr/>
              <p:nvPr/>
            </p:nvSpPr>
            <p:spPr>
              <a:xfrm>
                <a:off x="7797960" y="144288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76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9520" y="0"/>
              <a:ext cx="1004760" cy="754200"/>
              <a:chOff x="6329520" y="0"/>
              <a:chExt cx="1004760" cy="754200"/>
            </a:xfrm>
          </p:grpSpPr>
          <p:sp>
            <p:nvSpPr>
              <p:cNvPr id="8" name=""/>
              <p:cNvSpPr/>
              <p:nvPr/>
            </p:nvSpPr>
            <p:spPr>
              <a:xfrm>
                <a:off x="6329520" y="0"/>
                <a:ext cx="1004760" cy="754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868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600"/>
              <a:ext cx="2962800" cy="3361680"/>
              <a:chOff x="6273360" y="-21600"/>
              <a:chExt cx="2962800" cy="336168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1200" y="403200"/>
                <a:ext cx="1498680" cy="1104840"/>
                <a:chOff x="6991200" y="403200"/>
                <a:chExt cx="1498680" cy="110484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1200" y="403200"/>
                  <a:ext cx="1498680" cy="1104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2880" y="806400"/>
                  <a:ext cx="29700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600"/>
                <a:ext cx="2867400" cy="3361680"/>
                <a:chOff x="6273360" y="-21600"/>
                <a:chExt cx="2867400" cy="336168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5400" y="843120"/>
                  <a:ext cx="1064880" cy="1140480"/>
                  <a:chOff x="7835400" y="843120"/>
                  <a:chExt cx="1064880" cy="114048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00000">
                    <a:off x="7762320" y="1132200"/>
                    <a:ext cx="8841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00000">
                    <a:off x="8405280" y="16002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5480" y="771120"/>
                  <a:ext cx="1265040" cy="1051920"/>
                  <a:chOff x="7845480" y="771120"/>
                  <a:chExt cx="1265040" cy="105192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0000">
                    <a:off x="7812000" y="1022040"/>
                    <a:ext cx="932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0000">
                    <a:off x="8575200" y="1425600"/>
                    <a:ext cx="50004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6560"/>
                  <a:ext cx="1288800" cy="825480"/>
                  <a:chOff x="7840440" y="736560"/>
                  <a:chExt cx="1288800" cy="82548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60000">
                    <a:off x="7829280" y="92376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60000">
                    <a:off x="8621280" y="122508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8280" y="695160"/>
                  <a:ext cx="1302480" cy="668160"/>
                  <a:chOff x="7838280" y="695160"/>
                  <a:chExt cx="1302480" cy="66816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3680" y="823680"/>
                    <a:ext cx="86076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852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4120" y="655200"/>
                  <a:ext cx="1224000" cy="422640"/>
                  <a:chOff x="7854120" y="655200"/>
                  <a:chExt cx="1224000" cy="42264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80000">
                    <a:off x="7861320" y="709560"/>
                    <a:ext cx="79380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80000">
                    <a:off x="8637120" y="796680"/>
                    <a:ext cx="4255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0680" y="631440"/>
                  <a:ext cx="1108080" cy="188280"/>
                  <a:chOff x="7870680" y="631440"/>
                  <a:chExt cx="1108080" cy="18828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480000">
                    <a:off x="7872120" y="64908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480000">
                    <a:off x="8588520" y="63828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4760" y="418680"/>
                  <a:ext cx="983160" cy="332640"/>
                  <a:chOff x="7844760" y="418680"/>
                  <a:chExt cx="983160" cy="33264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60000">
                    <a:off x="7848360" y="566280"/>
                    <a:ext cx="6332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60000">
                    <a:off x="8472600" y="45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7960" y="906480"/>
                  <a:ext cx="1067760" cy="1140840"/>
                  <a:chOff x="6537960" y="906480"/>
                  <a:chExt cx="106776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900000">
                    <a:off x="6792480" y="119592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900000">
                    <a:off x="6557760" y="1663920"/>
                    <a:ext cx="47448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600" y="860040"/>
                  <a:ext cx="1267920" cy="1053360"/>
                  <a:chOff x="6303600" y="860040"/>
                  <a:chExt cx="1267920" cy="105336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500000">
                    <a:off x="6671880" y="1110960"/>
                    <a:ext cx="93204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500000">
                    <a:off x="6338160" y="1515960"/>
                    <a:ext cx="50004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7040" y="828720"/>
                  <a:ext cx="1290240" cy="824040"/>
                  <a:chOff x="6287040" y="828720"/>
                  <a:chExt cx="1290240" cy="82404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40000">
                    <a:off x="6697800" y="1015920"/>
                    <a:ext cx="890280" cy="15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40000">
                    <a:off x="6315840" y="1315800"/>
                    <a:ext cx="47808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6960"/>
                  <a:ext cx="1306080" cy="668520"/>
                  <a:chOff x="6273360" y="786960"/>
                  <a:chExt cx="130608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3280" y="91548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600" y="112032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5920"/>
                  <a:ext cx="1223280" cy="420840"/>
                  <a:chOff x="6338880" y="745920"/>
                  <a:chExt cx="1223280" cy="42084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20000">
                    <a:off x="6761880" y="79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20000">
                    <a:off x="6354360" y="887400"/>
                    <a:ext cx="4255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4280" y="720360"/>
                  <a:ext cx="1108080" cy="188280"/>
                  <a:chOff x="6434280" y="720360"/>
                  <a:chExt cx="1108080" cy="18828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120000">
                    <a:off x="6819480" y="738000"/>
                    <a:ext cx="72072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120000">
                    <a:off x="6437160" y="726840"/>
                    <a:ext cx="38736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3320" y="509040"/>
                  <a:ext cx="984600" cy="332640"/>
                  <a:chOff x="6583320" y="509040"/>
                  <a:chExt cx="984600" cy="33264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40000">
                    <a:off x="6930000" y="657000"/>
                    <a:ext cx="63324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40000">
                    <a:off x="6598800" y="54720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6600" y="392760"/>
                  <a:ext cx="970920" cy="450720"/>
                  <a:chOff x="6636600" y="392760"/>
                  <a:chExt cx="970920" cy="45072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60000">
                    <a:off x="6976440" y="62244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60000">
                    <a:off x="6656400" y="447480"/>
                    <a:ext cx="33984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49640" y="222840"/>
                  <a:ext cx="905760" cy="629280"/>
                  <a:chOff x="6749640" y="222840"/>
                  <a:chExt cx="905760" cy="62928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40000">
                    <a:off x="7044840" y="5742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40000">
                    <a:off x="6768720" y="303120"/>
                    <a:ext cx="3398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6280" y="56880"/>
                  <a:ext cx="825480" cy="765360"/>
                  <a:chOff x="6866280" y="56880"/>
                  <a:chExt cx="825480" cy="7653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700000">
                    <a:off x="7104240" y="501120"/>
                    <a:ext cx="642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700000">
                    <a:off x="6876000" y="153720"/>
                    <a:ext cx="346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080" y="18720"/>
                  <a:ext cx="609120" cy="783360"/>
                  <a:chOff x="7111080" y="18720"/>
                  <a:chExt cx="609120" cy="78336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80000">
                    <a:off x="7241040" y="478440"/>
                    <a:ext cx="5652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80000">
                    <a:off x="7112520" y="106560"/>
                    <a:ext cx="3031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840" y="-21600"/>
                  <a:ext cx="467280" cy="812160"/>
                  <a:chOff x="7287840" y="-21600"/>
                  <a:chExt cx="467280" cy="81216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40000">
                    <a:off x="7333200" y="460800"/>
                    <a:ext cx="54468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40000">
                    <a:off x="7274880" y="59040"/>
                    <a:ext cx="29196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640" y="272520"/>
                  <a:ext cx="963000" cy="464040"/>
                  <a:chOff x="7793640" y="272520"/>
                  <a:chExt cx="963000" cy="46404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80000">
                    <a:off x="7791120" y="511200"/>
                    <a:ext cx="6318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80000">
                    <a:off x="8396280" y="329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8560" y="136080"/>
                  <a:ext cx="914760" cy="607680"/>
                  <a:chOff x="7738560" y="136080"/>
                  <a:chExt cx="914760" cy="60768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80000">
                    <a:off x="7719840" y="473040"/>
                    <a:ext cx="633600" cy="111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80000">
                    <a:off x="8292600" y="212760"/>
                    <a:ext cx="339840" cy="174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60000">
                  <a:off x="7419960" y="4881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60000">
                  <a:off x="7430400" y="101160"/>
                  <a:ext cx="28260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0440"/>
                  <a:ext cx="500040" cy="790560"/>
                  <a:chOff x="7665480" y="-10440"/>
                  <a:chExt cx="500040" cy="79056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60000">
                    <a:off x="7554960" y="465840"/>
                    <a:ext cx="54612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60000">
                    <a:off x="7887960" y="78840"/>
                    <a:ext cx="29196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600" y="38880"/>
                  <a:ext cx="786240" cy="748080"/>
                  <a:chOff x="7662600" y="38880"/>
                  <a:chExt cx="786240" cy="74808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40000">
                    <a:off x="7621560" y="456840"/>
                    <a:ext cx="59220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40000">
                    <a:off x="8101440" y="119520"/>
                    <a:ext cx="31752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11560" y="-360"/>
                  <a:ext cx="175680" cy="745560"/>
                  <a:chOff x="7711560" y="-360"/>
                  <a:chExt cx="175680" cy="74556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80000">
                    <a:off x="7522920" y="477720"/>
                    <a:ext cx="48888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80000">
                    <a:off x="7702200" y="100080"/>
                    <a:ext cx="263520" cy="6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040" bIns="2304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0040" y="930960"/>
                  <a:ext cx="918000" cy="1247040"/>
                  <a:chOff x="6710040" y="930960"/>
                  <a:chExt cx="918000" cy="12470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60000">
                    <a:off x="6860520" y="1255320"/>
                    <a:ext cx="88416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60000">
                    <a:off x="6713280" y="178632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6400" y="977760"/>
                  <a:ext cx="614520" cy="1249200"/>
                  <a:chOff x="7016400" y="977760"/>
                  <a:chExt cx="614520" cy="124920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20000">
                    <a:off x="6993360" y="1307160"/>
                    <a:ext cx="819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20000">
                    <a:off x="6995880" y="1849320"/>
                    <a:ext cx="43992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869880" y="2541600"/>
                  <a:ext cx="524520" cy="798480"/>
                  <a:chOff x="6869880" y="2541600"/>
                  <a:chExt cx="524520" cy="7984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60000">
                    <a:off x="6855840" y="286848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60000">
                    <a:off x="6810480" y="2702520"/>
                    <a:ext cx="42228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9040" y="909720"/>
                  <a:ext cx="951480" cy="1227600"/>
                  <a:chOff x="7799040" y="909720"/>
                  <a:chExt cx="951480" cy="12276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20000">
                    <a:off x="7691760" y="1227960"/>
                    <a:ext cx="8859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20000">
                    <a:off x="8267400" y="174600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7160" y="954720"/>
                  <a:ext cx="733320" cy="1261080"/>
                  <a:chOff x="7787160" y="954720"/>
                  <a:chExt cx="733320" cy="126108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20000">
                    <a:off x="7630200" y="1288080"/>
                    <a:ext cx="84780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20000">
                    <a:off x="8080200" y="183780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4400" y="1005120"/>
                  <a:ext cx="515520" cy="1242720"/>
                  <a:chOff x="7754400" y="1005120"/>
                  <a:chExt cx="515520" cy="124272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60000">
                    <a:off x="7537680" y="1350000"/>
                    <a:ext cx="8208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60000">
                    <a:off x="7883640" y="1907280"/>
                    <a:ext cx="4413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5680" y="1058760"/>
                  <a:ext cx="289080" cy="1154880"/>
                  <a:chOff x="7735680" y="1058760"/>
                  <a:chExt cx="289080" cy="115488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920000">
                    <a:off x="7473240" y="1378080"/>
                    <a:ext cx="75564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920000">
                    <a:off x="7695000" y="1899000"/>
                    <a:ext cx="4064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2760" y="1076760"/>
                  <a:ext cx="277200" cy="1131840"/>
                  <a:chOff x="7502760" y="1076760"/>
                  <a:chExt cx="277200" cy="113184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60000">
                    <a:off x="7324200" y="1400040"/>
                    <a:ext cx="7380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60000">
                    <a:off x="7400520" y="1928520"/>
                    <a:ext cx="3952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5400" y="1222200"/>
                <a:ext cx="2509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4680" y="906480"/>
                <a:ext cx="2181240" cy="2406600"/>
              </a:xfrm>
              <a:custGeom>
                <a:avLst/>
                <a:gdLst>
                  <a:gd name="textAreaLeft" fmla="*/ 1090080 w 2181240"/>
                  <a:gd name="textAreaRight" fmla="*/ 2180880 w 2181240"/>
                  <a:gd name="textAreaTop" fmla="*/ 42840 h 2406600"/>
                  <a:gd name="textAreaBottom" fmla="*/ 1225080 h 24066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83480" y="232920"/>
                <a:ext cx="1552680" cy="2100240"/>
              </a:xfrm>
              <a:custGeom>
                <a:avLst/>
                <a:gdLst>
                  <a:gd name="textAreaLeft" fmla="*/ 141840 w 1552680"/>
                  <a:gd name="textAreaRight" fmla="*/ 1459800 w 1552680"/>
                  <a:gd name="textAreaTop" fmla="*/ 1050480 h 2100240"/>
                  <a:gd name="textAreaBottom" fmla="*/ 2100600 h 21002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4120" y="758880"/>
                <a:ext cx="957240" cy="2398680"/>
              </a:xfrm>
              <a:custGeom>
                <a:avLst/>
                <a:gdLst>
                  <a:gd name="textAreaLeft" fmla="*/ 318960 w 957240"/>
                  <a:gd name="textAreaRight" fmla="*/ 956880 w 95724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2320" y="822240"/>
                <a:ext cx="1465200" cy="2395800"/>
              </a:xfrm>
              <a:custGeom>
                <a:avLst/>
                <a:gdLst>
                  <a:gd name="textAreaLeft" fmla="*/ 429840 w 1465200"/>
                  <a:gd name="textAreaRight" fmla="*/ 1465200 w 1465200"/>
                  <a:gd name="textAreaTop" fmla="*/ 0 h 2395800"/>
                  <a:gd name="textAreaBottom" fmla="*/ 1219680 h 23958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960" y="600120"/>
                <a:ext cx="1533600" cy="2398680"/>
              </a:xfrm>
              <a:custGeom>
                <a:avLst/>
                <a:gdLst>
                  <a:gd name="textAreaLeft" fmla="*/ 313920 w 1533600"/>
                  <a:gd name="textAreaRight" fmla="*/ 1533600 w 1533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3720" y="771480"/>
                <a:ext cx="243000" cy="2398680"/>
              </a:xfrm>
              <a:custGeom>
                <a:avLst/>
                <a:gdLst>
                  <a:gd name="textAreaLeft" fmla="*/ 47880 w 243000"/>
                  <a:gd name="textAreaRight" fmla="*/ 243000 w 2430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6720" y="765000"/>
                <a:ext cx="642960" cy="2399040"/>
              </a:xfrm>
              <a:custGeom>
                <a:avLst/>
                <a:gdLst>
                  <a:gd name="textAreaLeft" fmla="*/ 127080 w 642960"/>
                  <a:gd name="textAreaRight" fmla="*/ 642960 w 642960"/>
                  <a:gd name="textAreaTop" fmla="*/ 0 h 2399040"/>
                  <a:gd name="textAreaBottom" fmla="*/ 1221480 h 239904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78800" y="606600"/>
                <a:ext cx="912600" cy="2398680"/>
              </a:xfrm>
              <a:custGeom>
                <a:avLst/>
                <a:gdLst>
                  <a:gd name="textAreaLeft" fmla="*/ 180360 w 912600"/>
                  <a:gd name="textAreaRight" fmla="*/ 912600 w 91260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9560" y="1352520"/>
                <a:ext cx="24912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80000">
                <a:off x="7611840" y="1102680"/>
                <a:ext cx="2268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39600" y="417600"/>
                <a:ext cx="1538280" cy="2398680"/>
              </a:xfrm>
              <a:custGeom>
                <a:avLst/>
                <a:gdLst>
                  <a:gd name="textAreaLeft" fmla="*/ 234000 w 1538280"/>
                  <a:gd name="textAreaRight" fmla="*/ 1537920 w 1538280"/>
                  <a:gd name="textAreaTop" fmla="*/ 0 h 2398680"/>
                  <a:gd name="textAreaBottom" fmla="*/ 1221120 h 23986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9280" y="160200"/>
                <a:ext cx="1281240" cy="2363760"/>
              </a:xfrm>
              <a:custGeom>
                <a:avLst/>
                <a:gdLst>
                  <a:gd name="textAreaLeft" fmla="*/ 104760 w 1281240"/>
                  <a:gd name="textAreaRight" fmla="*/ 1053360 w 1281240"/>
                  <a:gd name="textAreaTop" fmla="*/ 0 h 2363760"/>
                  <a:gd name="textAreaBottom" fmla="*/ 1181880 h 236376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5080" y="657360"/>
                <a:ext cx="543240" cy="2367000"/>
              </a:xfrm>
              <a:custGeom>
                <a:avLst/>
                <a:gdLst>
                  <a:gd name="textAreaLeft" fmla="*/ 107280 w 543240"/>
                  <a:gd name="textAreaRight" fmla="*/ 498960 w 543240"/>
                  <a:gd name="textAreaTop" fmla="*/ 0 h 2367000"/>
                  <a:gd name="textAreaBottom" fmla="*/ 1183320 h 23670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880" y="128592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5880" y="457200"/>
                <a:ext cx="3574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7720" y="225360"/>
                <a:ext cx="2145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960" y="1170000"/>
                <a:ext cx="517680" cy="822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760" y="754200"/>
                <a:ext cx="779400" cy="549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3160"/>
                <a:ext cx="341280" cy="736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20000">
                <a:off x="7986600" y="783720"/>
                <a:ext cx="22860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80000">
                <a:off x="7176960" y="772920"/>
                <a:ext cx="227160" cy="430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096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3480" indent="-30348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659520" indent="-25272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01700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4241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30960" indent="-203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830960" indent="-203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C95895-2DB9-48A0-ABAB-4BF0E2240D45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7320"/>
            <a:ext cx="7120440" cy="8075880"/>
            <a:chOff x="2010960" y="247320"/>
            <a:chExt cx="7120440" cy="807588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3600"/>
                <a:ext cx="228600" cy="133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7320"/>
              <a:ext cx="7120440" cy="8075880"/>
              <a:chOff x="2010960" y="247320"/>
              <a:chExt cx="7120440" cy="807588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7320"/>
                <a:ext cx="6891840" cy="8075880"/>
                <a:chOff x="2010960" y="247320"/>
                <a:chExt cx="6891840" cy="807588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360" y="1266840"/>
                  <a:ext cx="3598920" cy="2652840"/>
                  <a:chOff x="3735360" y="1266840"/>
                  <a:chExt cx="3598920" cy="265284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360" y="1266840"/>
                    <a:ext cx="3598920" cy="2652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200" y="2236680"/>
                    <a:ext cx="714240" cy="50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7320"/>
                  <a:ext cx="6891840" cy="8075880"/>
                  <a:chOff x="2010960" y="247320"/>
                  <a:chExt cx="6891840" cy="807588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1080" y="2323440"/>
                    <a:ext cx="2562840" cy="2741040"/>
                    <a:chOff x="5761080" y="2323440"/>
                    <a:chExt cx="2562840" cy="27410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00000">
                      <a:off x="5585040" y="3018600"/>
                      <a:ext cx="21258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00000">
                      <a:off x="7135560" y="41446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6280" y="2147040"/>
                    <a:ext cx="3044880" cy="2529720"/>
                    <a:chOff x="5786280" y="2147040"/>
                    <a:chExt cx="3044880" cy="252972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0000">
                      <a:off x="5706720" y="274968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0000">
                      <a:off x="7544880" y="3720600"/>
                      <a:ext cx="120204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4760" y="2070720"/>
                    <a:ext cx="3098520" cy="1983960"/>
                    <a:chOff x="5774760" y="2070720"/>
                    <a:chExt cx="3098520" cy="198396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60000">
                      <a:off x="5748480" y="2521080"/>
                      <a:ext cx="21412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60000">
                      <a:off x="7652880" y="324468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640" y="1968480"/>
                    <a:ext cx="3134160" cy="1611720"/>
                    <a:chOff x="5768640" y="1968480"/>
                    <a:chExt cx="3134160" cy="16117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600" y="22777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040" y="277452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800" y="1874160"/>
                    <a:ext cx="2942280" cy="1008720"/>
                    <a:chOff x="5806800" y="1874160"/>
                    <a:chExt cx="2942280" cy="100872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80000">
                      <a:off x="5824080" y="2004840"/>
                      <a:ext cx="19051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80000">
                      <a:off x="7687800" y="2211120"/>
                      <a:ext cx="102420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48920" y="1811160"/>
                    <a:ext cx="2664000" cy="455760"/>
                    <a:chOff x="5848920" y="1811160"/>
                    <a:chExt cx="2664000" cy="45576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480000">
                      <a:off x="5852880" y="185220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480000">
                      <a:off x="7575120" y="1827000"/>
                      <a:ext cx="930240" cy="42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080" y="1299240"/>
                    <a:ext cx="2365560" cy="799920"/>
                    <a:chOff x="5788080" y="1299240"/>
                    <a:chExt cx="2365560" cy="7999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60000">
                      <a:off x="5797440" y="165420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60000">
                      <a:off x="7297200" y="1391760"/>
                      <a:ext cx="8179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7440" y="2474280"/>
                    <a:ext cx="2557440" cy="2741040"/>
                    <a:chOff x="2647440" y="2474280"/>
                    <a:chExt cx="2557440" cy="274104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900000">
                      <a:off x="3254400" y="316944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900000">
                      <a:off x="2693880" y="4295520"/>
                      <a:ext cx="11415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840" y="2365920"/>
                    <a:ext cx="3041640" cy="2529720"/>
                    <a:chOff x="2085840" y="2365920"/>
                    <a:chExt cx="304164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500000">
                      <a:off x="2970000" y="2968560"/>
                      <a:ext cx="223668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500000">
                      <a:off x="2169720" y="3938760"/>
                      <a:ext cx="1201680" cy="67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1920" y="2288160"/>
                    <a:ext cx="3099240" cy="1985760"/>
                    <a:chOff x="2041920" y="2288160"/>
                    <a:chExt cx="3099240" cy="19857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40000">
                      <a:off x="3024720" y="2738520"/>
                      <a:ext cx="2141640" cy="37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40000">
                      <a:off x="2111760" y="3463920"/>
                      <a:ext cx="114948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7360"/>
                    <a:ext cx="3134520" cy="1610280"/>
                    <a:chOff x="2010960" y="2187360"/>
                    <a:chExt cx="3134520" cy="161028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240" y="249660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320" y="2991960"/>
                      <a:ext cx="1111320" cy="64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4680" y="2093400"/>
                    <a:ext cx="2943720" cy="1008720"/>
                    <a:chOff x="2164680" y="2093400"/>
                    <a:chExt cx="2943720" cy="100872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20000">
                      <a:off x="3185640" y="2224080"/>
                      <a:ext cx="190512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20000">
                      <a:off x="2201400" y="2430000"/>
                      <a:ext cx="102420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1560" y="2030040"/>
                    <a:ext cx="2660040" cy="456120"/>
                    <a:chOff x="2401560" y="2030040"/>
                    <a:chExt cx="2660040" cy="45612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120000">
                      <a:off x="3325320" y="2069640"/>
                      <a:ext cx="173196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120000">
                      <a:off x="2408040" y="2045880"/>
                      <a:ext cx="93024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58680" y="1518840"/>
                    <a:ext cx="2365560" cy="799560"/>
                    <a:chOff x="2758680" y="1518840"/>
                    <a:chExt cx="2365560" cy="79956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40000">
                      <a:off x="3593520" y="187308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40000">
                      <a:off x="2796840" y="1611000"/>
                      <a:ext cx="81612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6120" y="1238760"/>
                    <a:ext cx="2328840" cy="1078920"/>
                    <a:chOff x="2886120" y="1238760"/>
                    <a:chExt cx="2328840" cy="10789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60000">
                      <a:off x="3696840" y="178884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60000">
                      <a:off x="2933640" y="1371240"/>
                      <a:ext cx="8175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59360" y="831600"/>
                    <a:ext cx="2171160" cy="1510920"/>
                    <a:chOff x="3159360" y="831600"/>
                    <a:chExt cx="2171160" cy="151092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40000">
                      <a:off x="3865320" y="167436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40000">
                      <a:off x="3205800" y="1023840"/>
                      <a:ext cx="81576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8000" y="434520"/>
                    <a:ext cx="1982160" cy="1838880"/>
                    <a:chOff x="3438000" y="434520"/>
                    <a:chExt cx="1982160" cy="183888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700000">
                      <a:off x="4008960" y="1501560"/>
                      <a:ext cx="15429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700000">
                      <a:off x="3463200" y="666360"/>
                      <a:ext cx="82872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4800" y="336960"/>
                    <a:ext cx="1464480" cy="1887480"/>
                    <a:chOff x="4024800" y="336960"/>
                    <a:chExt cx="1464480" cy="18874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80000">
                      <a:off x="4338360" y="1446120"/>
                      <a:ext cx="13575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80000">
                      <a:off x="4030200" y="547560"/>
                      <a:ext cx="7286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50320" y="247320"/>
                    <a:ext cx="1118160" cy="1944000"/>
                    <a:chOff x="4450320" y="247320"/>
                    <a:chExt cx="1118160" cy="194400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40000">
                      <a:off x="4555800" y="140076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40000">
                      <a:off x="4419360" y="441720"/>
                      <a:ext cx="70344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2080" y="952920"/>
                    <a:ext cx="2315880" cy="1111320"/>
                    <a:chOff x="5662080" y="952920"/>
                    <a:chExt cx="2315880" cy="111132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80000">
                      <a:off x="5656320" y="15235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80000">
                      <a:off x="711324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30320" y="626760"/>
                    <a:ext cx="2197080" cy="1451520"/>
                    <a:chOff x="5530320" y="626760"/>
                    <a:chExt cx="2197080" cy="145152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80000">
                      <a:off x="5484960" y="1429920"/>
                      <a:ext cx="152064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80000">
                      <a:off x="6862680" y="81108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60000">
                    <a:off x="4766040" y="1465920"/>
                    <a:ext cx="1266480" cy="179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60000">
                    <a:off x="4795560" y="540720"/>
                    <a:ext cx="68112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3560" y="271800"/>
                    <a:ext cx="1200960" cy="1900800"/>
                    <a:chOff x="5353560" y="271800"/>
                    <a:chExt cx="1200960" cy="190080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60000">
                      <a:off x="5087520" y="142092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60000">
                      <a:off x="5887800" y="487440"/>
                      <a:ext cx="703440" cy="35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4920" y="389160"/>
                    <a:ext cx="1896120" cy="1796760"/>
                    <a:chOff x="5344920" y="389160"/>
                    <a:chExt cx="189612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40000">
                      <a:off x="5247360" y="1391040"/>
                      <a:ext cx="142416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40000">
                      <a:off x="6404760" y="584640"/>
                      <a:ext cx="76500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60480" y="292680"/>
                    <a:ext cx="426240" cy="1797840"/>
                    <a:chOff x="5460480" y="292680"/>
                    <a:chExt cx="426240" cy="179784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80000">
                      <a:off x="5006880" y="1447200"/>
                      <a:ext cx="11761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80000">
                      <a:off x="5443920" y="533520"/>
                      <a:ext cx="63180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520" y="2533320"/>
                    <a:ext cx="2201400" cy="2999520"/>
                    <a:chOff x="3062520" y="2533320"/>
                    <a:chExt cx="2201400" cy="299952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60000">
                      <a:off x="3420720" y="3313440"/>
                      <a:ext cx="212508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60000">
                      <a:off x="3071520" y="45910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4400" y="2647080"/>
                    <a:ext cx="1474920" cy="3003120"/>
                    <a:chOff x="3794400" y="2647080"/>
                    <a:chExt cx="1474920" cy="300312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20000">
                      <a:off x="3737880" y="3438000"/>
                      <a:ext cx="1967040" cy="38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20000">
                      <a:off x="3744720" y="4744800"/>
                      <a:ext cx="105588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3445200" y="6404400"/>
                    <a:ext cx="1256760" cy="1918800"/>
                    <a:chOff x="3445200" y="6404400"/>
                    <a:chExt cx="1256760" cy="191880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60000">
                      <a:off x="3407760" y="7190640"/>
                      <a:ext cx="188748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60000">
                      <a:off x="3301920" y="6795360"/>
                      <a:ext cx="101304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4320" y="2485440"/>
                    <a:ext cx="2288520" cy="2950200"/>
                    <a:chOff x="5674320" y="2485440"/>
                    <a:chExt cx="2288520" cy="29502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20000">
                      <a:off x="5417280" y="3249000"/>
                      <a:ext cx="212544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20000">
                      <a:off x="6802200" y="4497480"/>
                      <a:ext cx="114120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2640" y="2594880"/>
                    <a:ext cx="1766160" cy="3031560"/>
                    <a:chOff x="5642640" y="2594880"/>
                    <a:chExt cx="1766160" cy="303156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20000">
                      <a:off x="5265000" y="3395520"/>
                      <a:ext cx="203544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20000">
                      <a:off x="6351120" y="4719600"/>
                      <a:ext cx="1092240" cy="57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1720" y="2711160"/>
                    <a:ext cx="1232280" cy="2985840"/>
                    <a:chOff x="5571720" y="2711160"/>
                    <a:chExt cx="1232280" cy="298584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60000">
                      <a:off x="5049000" y="3542400"/>
                      <a:ext cx="197460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60000">
                      <a:off x="5877000" y="4880880"/>
                      <a:ext cx="105876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9240" y="2838960"/>
                    <a:ext cx="687600" cy="2777400"/>
                    <a:chOff x="5529240" y="2838960"/>
                    <a:chExt cx="68760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920000">
                      <a:off x="4898520" y="3606480"/>
                      <a:ext cx="1814400" cy="30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920000">
                      <a:off x="5425560" y="4862160"/>
                      <a:ext cx="974520" cy="47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1160" y="2886840"/>
                    <a:ext cx="664560" cy="2717640"/>
                    <a:chOff x="4961160" y="2886840"/>
                    <a:chExt cx="66456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60000">
                      <a:off x="4532040" y="3663720"/>
                      <a:ext cx="1771560" cy="23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60000">
                      <a:off x="4716360" y="4930560"/>
                      <a:ext cx="95076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4760" y="682560"/>
                <a:ext cx="6956640" cy="7348680"/>
                <a:chOff x="2174760" y="682560"/>
                <a:chExt cx="6956640" cy="734868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4760" y="682560"/>
                  <a:ext cx="6956640" cy="7348680"/>
                  <a:chOff x="2174760" y="682560"/>
                  <a:chExt cx="6956640" cy="734868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00720" y="858600"/>
                    <a:ext cx="3730680" cy="5045040"/>
                  </a:xfrm>
                  <a:custGeom>
                    <a:avLst/>
                    <a:gdLst>
                      <a:gd name="textAreaLeft" fmla="*/ 340920 w 3730680"/>
                      <a:gd name="textAreaRight" fmla="*/ 3507480 w 3730680"/>
                      <a:gd name="textAreaTop" fmla="*/ 2522160 h 5045040"/>
                      <a:gd name="textAreaBottom" fmla="*/ 5045040 h 504504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400" y="2270160"/>
                    <a:ext cx="3519720" cy="5761080"/>
                  </a:xfrm>
                  <a:custGeom>
                    <a:avLst/>
                    <a:gdLst>
                      <a:gd name="textAreaLeft" fmla="*/ 1032480 w 3519720"/>
                      <a:gd name="textAreaRight" fmla="*/ 3519360 w 351972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86320" y="1752480"/>
                    <a:ext cx="2192400" cy="5761080"/>
                  </a:xfrm>
                  <a:custGeom>
                    <a:avLst/>
                    <a:gdLst>
                      <a:gd name="textAreaLeft" fmla="*/ 433440 w 2192400"/>
                      <a:gd name="textAreaRight" fmla="*/ 2192400 w 219240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520"/>
                    <a:ext cx="3695760" cy="5761080"/>
                  </a:xfrm>
                  <a:custGeom>
                    <a:avLst/>
                    <a:gdLst>
                      <a:gd name="textAreaLeft" fmla="*/ 563760 w 3695760"/>
                      <a:gd name="textAreaRight" fmla="*/ 3696120 w 3695760"/>
                      <a:gd name="textAreaTop" fmla="*/ 0 h 5761080"/>
                      <a:gd name="textAreaBottom" fmla="*/ 2932920 h 57610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510640" y="682560"/>
                    <a:ext cx="3081240" cy="5681880"/>
                  </a:xfrm>
                  <a:custGeom>
                    <a:avLst/>
                    <a:gdLst>
                      <a:gd name="textAreaLeft" fmla="*/ 252000 w 3081240"/>
                      <a:gd name="textAreaRight" fmla="*/ 2533320 w 3081240"/>
                      <a:gd name="textAreaTop" fmla="*/ 0 h 5681880"/>
                      <a:gd name="textAreaBottom" fmla="*/ 2840760 h 568188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2240" y="1874880"/>
                    <a:ext cx="1308240" cy="5681520"/>
                  </a:xfrm>
                  <a:custGeom>
                    <a:avLst/>
                    <a:gdLst>
                      <a:gd name="textAreaLeft" fmla="*/ 258840 w 1308240"/>
                      <a:gd name="textAreaRight" fmla="*/ 1201320 w 1308240"/>
                      <a:gd name="textAreaTop" fmla="*/ 0 h 5681520"/>
                      <a:gd name="textAreaBottom" fmla="*/ 2840400 h 5681520"/>
                    </a:gdLst>
                    <a:ahLst/>
                    <a:rect l="textAreaLeft" t="textAreaTop" r="textAreaRight" b="textAreaBottom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640"/>
                    <a:ext cx="515880" cy="187956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93000"/>
                      </a:lnSpc>
                      <a:tabLst>
                        <a:tab algn="l" pos="0"/>
                        <a:tab algn="l" pos="449280"/>
                        <a:tab algn="l" pos="898560"/>
                        <a:tab algn="l" pos="1347840"/>
                        <a:tab algn="l" pos="1797120"/>
                        <a:tab algn="l" pos="2246400"/>
                        <a:tab algn="l" pos="2695680"/>
                        <a:tab algn="l" pos="3144960"/>
                        <a:tab algn="l" pos="3594240"/>
                        <a:tab algn="l" pos="4043520"/>
                        <a:tab algn="l" pos="4492800"/>
                        <a:tab algn="l" pos="4941720"/>
                        <a:tab algn="l" pos="5391000"/>
                        <a:tab algn="l" pos="5840280"/>
                        <a:tab algn="l" pos="6289560"/>
                        <a:tab algn="l" pos="6738840"/>
                        <a:tab algn="l" pos="7188120"/>
                        <a:tab algn="l" pos="7637400"/>
                        <a:tab algn="l" pos="8086680"/>
                        <a:tab algn="l" pos="8535960"/>
                        <a:tab algn="l" pos="898524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20000">
                  <a:off x="6127920" y="2182320"/>
                  <a:ext cx="5443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520" cy="7547040"/>
              <a:chOff x="2342880" y="712800"/>
              <a:chExt cx="6410520" cy="754704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7960" y="323532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4720" y="2476440"/>
                <a:ext cx="5233680" cy="5783400"/>
              </a:xfrm>
              <a:custGeom>
                <a:avLst/>
                <a:gdLst>
                  <a:gd name="textAreaLeft" fmla="*/ 2616480 w 5233680"/>
                  <a:gd name="textAreaRight" fmla="*/ 5233680 w 5233680"/>
                  <a:gd name="textAreaTop" fmla="*/ 102960 h 5783400"/>
                  <a:gd name="textAreaBottom" fmla="*/ 2944440 h 578340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000" y="2122560"/>
                <a:ext cx="2301840" cy="5762520"/>
              </a:xfrm>
              <a:custGeom>
                <a:avLst/>
                <a:gdLst>
                  <a:gd name="textAreaLeft" fmla="*/ 768240 w 2301840"/>
                  <a:gd name="textAreaRight" fmla="*/ 2302200 w 230184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6640"/>
                <a:ext cx="3684600" cy="5762880"/>
              </a:xfrm>
              <a:custGeom>
                <a:avLst/>
                <a:gdLst>
                  <a:gd name="textAreaLeft" fmla="*/ 753840 w 3684600"/>
                  <a:gd name="textAreaRight" fmla="*/ 3684240 w 368460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0560" y="2151000"/>
                <a:ext cx="585720" cy="5762520"/>
              </a:xfrm>
              <a:custGeom>
                <a:avLst/>
                <a:gdLst>
                  <a:gd name="textAreaLeft" fmla="*/ 115920 w 585720"/>
                  <a:gd name="textAreaRight" fmla="*/ 585720 w 585720"/>
                  <a:gd name="textAreaTop" fmla="*/ 0 h 5762520"/>
                  <a:gd name="textAreaBottom" fmla="*/ 2933640 h 576252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05400" y="2136600"/>
                <a:ext cx="1542960" cy="5762880"/>
              </a:xfrm>
              <a:custGeom>
                <a:avLst/>
                <a:gdLst>
                  <a:gd name="textAreaLeft" fmla="*/ 305280 w 1542960"/>
                  <a:gd name="textAreaRight" fmla="*/ 1542960 w 1542960"/>
                  <a:gd name="textAreaTop" fmla="*/ 0 h 5762880"/>
                  <a:gd name="textAreaBottom" fmla="*/ 2934000 h 5762880"/>
                </a:gdLst>
                <a:ahLst/>
                <a:rect l="textAreaLeft" t="textAreaTop" r="textAreaRight" b="textAreaBottom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560" y="3546360"/>
                <a:ext cx="59868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80000">
                <a:off x="5223960" y="2948040"/>
                <a:ext cx="54468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5960" y="3384720"/>
                <a:ext cx="133848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760" y="1398600"/>
                <a:ext cx="858960" cy="1879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2120" y="3108240"/>
                <a:ext cx="1241280" cy="19749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5920" y="2109960"/>
                <a:ext cx="187164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760" y="712800"/>
                <a:ext cx="81756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80000">
                <a:off x="4182120" y="2153880"/>
                <a:ext cx="546120" cy="1031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000"/>
            <a:ext cx="777096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A437A4D-35D4-4719-BB72-52550E9F1141}" type="slidenum">
              <a:rPr b="0" lang="en-GB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0840" indent="-330840">
              <a:lnSpc>
                <a:spcPct val="118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18920" indent="-275400">
              <a:lnSpc>
                <a:spcPct val="118000"/>
              </a:lnSpc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0844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5196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995480" indent="-221400">
              <a:lnSpc>
                <a:spcPct val="118000"/>
              </a:lnSpc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1995480" indent="-221400">
              <a:lnSpc>
                <a:spcPct val="118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679040"/>
            <a:ext cx="777240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MONITORING &amp; EVALUATING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How do you know your training programme is working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Black"/>
              </a:rPr>
              <a:t>When should you Monitor your training programme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You </a:t>
            </a:r>
            <a:r>
              <a:rPr b="0" i="1" lang="en-GB" sz="3200" spc="-1" strike="noStrike">
                <a:solidFill>
                  <a:srgbClr val="ffcc00"/>
                </a:solidFill>
                <a:latin typeface="Arial Black"/>
              </a:rPr>
              <a:t>should</a:t>
            </a: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 continually monitor your training programme (REGULAR MONITORING)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cc00"/>
                </a:solidFill>
                <a:latin typeface="Arial Black"/>
              </a:rPr>
              <a:t>Purposeful monitoring should take place half way through your programme and at the end of your programm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Why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on progres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make correct adjustments to training programme using progressive overlo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Able to check and see if I have met my goals/target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ffcc00"/>
                </a:solidFill>
                <a:latin typeface="Arial Black"/>
              </a:rPr>
              <a:t>Remember to give examples of each of these when answering questions on this topic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Use exactly the same methods of data collection as you carried out at the beginning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Observation Schedules (Initial &amp; Focussed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Video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Knowledge of Result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Refelctions of Performance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1" marL="741240" indent="-284040">
              <a:lnSpc>
                <a:spcPct val="100000"/>
              </a:lnSpc>
              <a:spcBef>
                <a:spcPts val="601"/>
              </a:spcBef>
              <a:buClr>
                <a:srgbClr val="fe1f08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cc00"/>
                </a:solidFill>
                <a:latin typeface="Arial Black"/>
              </a:rPr>
              <a:t>Max Jones Quad Test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 Black"/>
              </a:rPr>
              <a:t>How do you Monitor Training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Compare results from data collection method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 Black"/>
              </a:rPr>
              <a:t>Note improvement/plateau/ deterioration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1409760" cy="169992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2"/>
          <a:stretch/>
        </p:blipFill>
        <p:spPr>
          <a:xfrm>
            <a:off x="6877080" y="4508640"/>
            <a:ext cx="1677960" cy="1693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