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3C19100-04A5-48A7-873E-368627F2E22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C9D17A94-02B2-4057-A186-C6F7605A605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sldNum" idx="1"/>
          </p:nvPr>
        </p:nvSpPr>
        <p:spPr/>
        <p:txBody>
          <a:bodyPr/>
          <a:p>
            <a:fld id="{E01DEEC8-BAC9-43D4-887F-89BAB76E699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sldNum" idx="1"/>
          </p:nvPr>
        </p:nvSpPr>
        <p:spPr/>
        <p:txBody>
          <a:bodyPr/>
          <a:p>
            <a:fld id="{A860D1B8-FC56-4027-A437-4F18DF3F4BC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2"/>
          <p:cNvSpPr>
            <a:spLocks noGrp="1"/>
          </p:cNvSpPr>
          <p:nvPr>
            <p:ph type="subTitle"/>
          </p:nvPr>
        </p:nvSpPr>
        <p:spPr>
          <a:xfrm>
            <a:off x="1158480" y="1436760"/>
            <a:ext cx="7543800" cy="481464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sldNum" idx="1"/>
          </p:nvPr>
        </p:nvSpPr>
        <p:spPr/>
        <p:txBody>
          <a:bodyPr/>
          <a:p>
            <a:fld id="{63139DEE-CE14-4436-B322-8274A3AD33C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8" name="PlaceHolder 2"/>
          <p:cNvSpPr>
            <a:spLocks noGrp="1"/>
          </p:cNvSpPr>
          <p:nvPr>
            <p:ph/>
          </p:nvPr>
        </p:nvSpPr>
        <p:spPr>
          <a:xfrm>
            <a:off x="1158480" y="143676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11584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3"/>
          <p:cNvSpPr>
            <a:spLocks noGrp="1"/>
          </p:cNvSpPr>
          <p:nvPr>
            <p:ph/>
          </p:nvPr>
        </p:nvSpPr>
        <p:spPr>
          <a:xfrm>
            <a:off x="370908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4"/>
          <p:cNvSpPr>
            <a:spLocks noGrp="1"/>
          </p:cNvSpPr>
          <p:nvPr>
            <p:ph/>
          </p:nvPr>
        </p:nvSpPr>
        <p:spPr>
          <a:xfrm>
            <a:off x="6260040" y="143676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5"/>
          <p:cNvSpPr>
            <a:spLocks noGrp="1"/>
          </p:cNvSpPr>
          <p:nvPr>
            <p:ph/>
          </p:nvPr>
        </p:nvSpPr>
        <p:spPr>
          <a:xfrm>
            <a:off x="11584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PlaceHolder 6"/>
          <p:cNvSpPr>
            <a:spLocks noGrp="1"/>
          </p:cNvSpPr>
          <p:nvPr>
            <p:ph/>
          </p:nvPr>
        </p:nvSpPr>
        <p:spPr>
          <a:xfrm>
            <a:off x="370908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7"/>
          <p:cNvSpPr>
            <a:spLocks noGrp="1"/>
          </p:cNvSpPr>
          <p:nvPr>
            <p:ph/>
          </p:nvPr>
        </p:nvSpPr>
        <p:spPr>
          <a:xfrm>
            <a:off x="6260040" y="3951720"/>
            <a:ext cx="242892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25AB6A4-F6E9-4CB4-9999-DFDD406281E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1"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sldNum" idx="1"/>
          </p:nvPr>
        </p:nvSpPr>
        <p:spPr/>
        <p:txBody>
          <a:bodyPr/>
          <a:p>
            <a:fld id="{960D6E0F-F612-4F3B-932C-40B7A23BFAC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1"/>
          </p:nvPr>
        </p:nvSpPr>
        <p:spPr/>
        <p:txBody>
          <a:bodyPr/>
          <a:p>
            <a:fld id="{7816C709-0580-407F-A5E1-3E24DE3ABFE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149120" y="847800"/>
            <a:ext cx="7543800" cy="2597760"/>
          </a:xfrm>
          <a:prstGeom prst="rect">
            <a:avLst/>
          </a:prstGeom>
          <a:noFill/>
          <a:ln w="0">
            <a:noFill/>
          </a:ln>
        </p:spPr>
        <p:txBody>
          <a:bodyPr lIns="0" rIns="0" tIns="0" bIns="0" anchor="ctr">
            <a:noAutofit/>
          </a:bodyPr>
          <a:p>
            <a:endParaRPr b="1" lang="en-US" sz="2400" spc="-1" strike="noStrike">
              <a:solidFill>
                <a:srgbClr val="000000"/>
              </a:solidFill>
              <a:latin typeface="Arial"/>
            </a:endParaRPr>
          </a:p>
        </p:txBody>
      </p:sp>
      <p:sp>
        <p:nvSpPr>
          <p:cNvPr id="3" name="PlaceHolder 2"/>
          <p:cNvSpPr>
            <a:spLocks noGrp="1"/>
          </p:cNvSpPr>
          <p:nvPr>
            <p:ph type="sldNum" idx="1"/>
          </p:nvPr>
        </p:nvSpPr>
        <p:spPr/>
        <p:txBody>
          <a:bodyPr/>
          <a:p>
            <a:fld id="{5AE21FC3-BDC7-4B0B-BF2A-D13B545AAFE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6"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3"/>
          <p:cNvSpPr>
            <a:spLocks noGrp="1"/>
          </p:cNvSpPr>
          <p:nvPr>
            <p:ph/>
          </p:nvPr>
        </p:nvSpPr>
        <p:spPr>
          <a:xfrm>
            <a:off x="502416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4"/>
          <p:cNvSpPr>
            <a:spLocks noGrp="1"/>
          </p:cNvSpPr>
          <p:nvPr>
            <p:ph/>
          </p:nvPr>
        </p:nvSpPr>
        <p:spPr>
          <a:xfrm>
            <a:off x="115848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B7A96C90-9915-48D7-B3C2-B7C264BFF17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 name="PlaceHolder 2"/>
          <p:cNvSpPr>
            <a:spLocks noGrp="1"/>
          </p:cNvSpPr>
          <p:nvPr>
            <p:ph/>
          </p:nvPr>
        </p:nvSpPr>
        <p:spPr>
          <a:xfrm>
            <a:off x="1158480" y="1436760"/>
            <a:ext cx="368136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4"/>
          <p:cNvSpPr>
            <a:spLocks noGrp="1"/>
          </p:cNvSpPr>
          <p:nvPr>
            <p:ph/>
          </p:nvPr>
        </p:nvSpPr>
        <p:spPr>
          <a:xfrm>
            <a:off x="5024160" y="395172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2E85C165-9759-4453-B207-8C992E36F7C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 name="PlaceHolder 2"/>
          <p:cNvSpPr>
            <a:spLocks noGrp="1"/>
          </p:cNvSpPr>
          <p:nvPr>
            <p:ph/>
          </p:nvPr>
        </p:nvSpPr>
        <p:spPr>
          <a:xfrm>
            <a:off x="115848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3"/>
          <p:cNvSpPr>
            <a:spLocks noGrp="1"/>
          </p:cNvSpPr>
          <p:nvPr>
            <p:ph/>
          </p:nvPr>
        </p:nvSpPr>
        <p:spPr>
          <a:xfrm>
            <a:off x="5024160" y="1436760"/>
            <a:ext cx="368136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4"/>
          <p:cNvSpPr>
            <a:spLocks noGrp="1"/>
          </p:cNvSpPr>
          <p:nvPr>
            <p:ph/>
          </p:nvPr>
        </p:nvSpPr>
        <p:spPr>
          <a:xfrm>
            <a:off x="1158480" y="3951720"/>
            <a:ext cx="7543800" cy="22964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sldNum" idx="1"/>
          </p:nvPr>
        </p:nvSpPr>
        <p:spPr/>
        <p:txBody>
          <a:bodyPr/>
          <a:p>
            <a:fld id="{ABE8E67A-F312-44CD-AEEA-6F9785D2E35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6560" cy="1193760"/>
          </a:xfrm>
          <a:prstGeom prst="rect">
            <a:avLst/>
          </a:prstGeom>
          <a:ln w="0">
            <a:noFill/>
          </a:ln>
        </p:spPr>
      </p:pic>
      <p:sp>
        <p:nvSpPr>
          <p:cNvPr id="1" name=""/>
          <p:cNvSpPr/>
          <p:nvPr/>
        </p:nvSpPr>
        <p:spPr>
          <a:xfrm>
            <a:off x="1152360" y="262080"/>
            <a:ext cx="7550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2"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3" name="PlaceHolder 2"/>
          <p:cNvSpPr>
            <a:spLocks noGrp="1"/>
          </p:cNvSpPr>
          <p:nvPr>
            <p:ph type="body"/>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71520" indent="-181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666720" indent="-19044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952560" indent="-190440">
              <a:spcBef>
                <a:spcPts val="601"/>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238400" indent="-19080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 name="PlaceHolder 3"/>
          <p:cNvSpPr>
            <a:spLocks noGrp="1"/>
          </p:cNvSpPr>
          <p:nvPr>
            <p:ph type="sldNum" idx="1"/>
          </p:nvPr>
        </p:nvSpPr>
        <p:spPr>
          <a:xfrm>
            <a:off x="7019640" y="640080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A0466-E1F5-477F-8506-DD2610F1E16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1114560" y="1433520"/>
            <a:ext cx="7721640" cy="4933800"/>
          </a:xfrm>
          <a:prstGeom prst="rect">
            <a:avLst/>
          </a:prstGeom>
          <a:noFill/>
          <a:ln w="19080">
            <a:solidFill>
              <a:srgbClr val="5896d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1409760" y="1112760"/>
            <a:ext cx="12239640" cy="5238720"/>
          </a:xfrm>
          <a:prstGeom prst="rect">
            <a:avLst/>
          </a:prstGeom>
          <a:ln w="0">
            <a:noFill/>
          </a:ln>
        </p:spPr>
      </p:pic>
      <p:sp>
        <p:nvSpPr>
          <p:cNvPr id="43" name=""/>
          <p:cNvSpPr/>
          <p:nvPr/>
        </p:nvSpPr>
        <p:spPr>
          <a:xfrm>
            <a:off x="162000" y="1657440"/>
            <a:ext cx="6781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einigung Bergischer Unternehmerverbände e.V.</a:t>
            </a:r>
            <a:endParaRPr b="0" lang="en-US" sz="1800" spc="-1" strike="noStrike">
              <a:solidFill>
                <a:srgbClr val="000000"/>
              </a:solidFill>
              <a:latin typeface="Arial"/>
            </a:endParaRPr>
          </a:p>
        </p:txBody>
      </p:sp>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title text format</a:t>
            </a:r>
            <a:endParaRPr b="1" lang="en-US" sz="2400" spc="-1" strike="noStrike">
              <a:solidFill>
                <a:srgbClr val="000000"/>
              </a:solidFill>
              <a:latin typeface="Arial"/>
            </a:endParaRPr>
          </a:p>
        </p:txBody>
      </p:sp>
      <p:sp>
        <p:nvSpPr>
          <p:cNvPr id="4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266760" algn="ct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47628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762120" algn="ctr">
              <a:spcBef>
                <a:spcPts val="499"/>
              </a:spcBef>
              <a:buClr>
                <a:srgbClr val="000000"/>
              </a:buClr>
              <a:buFont typeface="Arial"/>
              <a:buChar char="o"/>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047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047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hyperlink" Target="http://www.arbeitsagentur.de/zentraler-Content/Vordrucke/A04-Vermittlung/Publikation/V-KSchG-Entlassungen-Anlage.pdf" TargetMode="External"/><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77,19"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5#jurabs_2"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91#jurabs_1" TargetMode="External"/><Relationship Id="rId2" Type="http://schemas.openxmlformats.org/officeDocument/2006/relationships/hyperlink" Target="http://www.lexsoft.de/lexisnexis/justizportal_nrw.cgi?sessionID=101241079505163751&amp;highlighting=off&amp;xid=137493,91#jurabs_3" TargetMode="External"/><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73" TargetMode="External"/><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37493,88" TargetMode="External"/><Relationship Id="rId2" Type="http://schemas.openxmlformats.org/officeDocument/2006/relationships/hyperlink" Target="http://www.lexsoft.de/lexisnexis/justizportal_nrw.cgi?sessionID=101241079505163751&amp;highlighting=off&amp;xid=137485,717#jurabs_2" TargetMode="External"/><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lexsoft.de/lexisnexis/justizportal_nrw.cgi?sessionID=101241079505163751&amp;highlighting=off&amp;xid=142066,117" TargetMode="External"/><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154080" y="4089240"/>
            <a:ext cx="3670200" cy="61308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nzkrise Teil 4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etriebsbedingte Kündigung</a:t>
            </a:r>
            <a:endParaRPr b="0" lang="en-US" sz="2000" spc="-1" strike="noStrike">
              <a:solidFill>
                <a:srgbClr val="000000"/>
              </a:solidFill>
              <a:latin typeface="Arial"/>
            </a:endParaRPr>
          </a:p>
        </p:txBody>
      </p:sp>
      <p:sp>
        <p:nvSpPr>
          <p:cNvPr id="83" name=""/>
          <p:cNvSpPr/>
          <p:nvPr/>
        </p:nvSpPr>
        <p:spPr>
          <a:xfrm>
            <a:off x="6985080" y="301680"/>
            <a:ext cx="165096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1.03.2009</a:t>
            </a:r>
            <a:endParaRPr b="0" lang="en-US" sz="2000" spc="-1" strike="noStrike">
              <a:solidFill>
                <a:srgbClr val="000000"/>
              </a:solidFill>
              <a:latin typeface="Arial"/>
            </a:endParaRPr>
          </a:p>
        </p:txBody>
      </p:sp>
      <p:sp>
        <p:nvSpPr>
          <p:cNvPr id="84" name=""/>
          <p:cNvSpPr/>
          <p:nvPr/>
        </p:nvSpPr>
        <p:spPr>
          <a:xfrm>
            <a:off x="4635360" y="6200640"/>
            <a:ext cx="3149640" cy="406440"/>
          </a:xfrm>
          <a:prstGeom prst="rect">
            <a:avLst/>
          </a:prstGeom>
          <a:gradFill rotWithShape="0">
            <a:gsLst>
              <a:gs pos="0">
                <a:srgbClr val="6600ff"/>
              </a:gs>
              <a:gs pos="100000">
                <a:srgbClr val="ffffff"/>
              </a:gs>
            </a:gsLst>
            <a:lin ang="5400000"/>
          </a:gradFill>
          <a:ln w="9360">
            <a:solidFill>
              <a:srgbClr val="6600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r. Wolfgang Kleinebrink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rkundenbeweis  </a:t>
            </a:r>
            <a:endParaRPr b="1" lang="en-US" sz="2800" spc="-1" strike="noStrike">
              <a:solidFill>
                <a:srgbClr val="000000"/>
              </a:solidFill>
              <a:latin typeface="Arial"/>
            </a:endParaRPr>
          </a:p>
        </p:txBody>
      </p:sp>
      <p:sp>
        <p:nvSpPr>
          <p:cNvPr id="1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ie Unternehmerentscheidung </a:t>
            </a:r>
            <a:r>
              <a:rPr b="0" lang="en-US" sz="2000" spc="-1" strike="noStrike" u="sng">
                <a:solidFill>
                  <a:srgbClr val="000000"/>
                </a:solidFill>
                <a:uFillTx/>
                <a:latin typeface="Arial"/>
              </a:rPr>
              <a:t>nicht</a:t>
            </a:r>
            <a:r>
              <a:rPr b="0" lang="en-US" sz="2000" spc="-1" strike="noStrike">
                <a:solidFill>
                  <a:srgbClr val="000000"/>
                </a:solidFill>
                <a:latin typeface="Arial"/>
              </a:rPr>
              <a:t> in schriftlicher Form vor, muss der Arbeitgeber in einem gerichtlichen Verfahren, das eine betriebsbedingte Kündigung zum Streitgegenstand hat, im Einzelnen insbesondere vortragen, wann die Unternehmerentscheidung getroffen wurde, wer sie getroffen hat und welchen Inhalt diese aufwe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hingegen eine Unternehmerentscheidung in schriftlicher Form vor, kann der Arbeitgeber mit ihrer Hilfe den Urkundenbeweis führen. Nach § 416 ZPO begründen Privaturkunden, sofern sie vom Aussteller unterschrieben oder – für eine Unternehmerentscheidung äußerst ungewöhnlich - mittels notariell beglaubigten Handzeichen unterzeichnet sind, vollen Beweis dafür, dass die in ihnen enthaltenen Erklärungen von den Ausstellern abgegeben wu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843A23B-3907-4E1C-B8A6-B5DD96708D7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1</a:t>
            </a:r>
            <a:endParaRPr b="1" lang="en-US" sz="2800" spc="-1" strike="noStrike">
              <a:solidFill>
                <a:srgbClr val="000000"/>
              </a:solidFill>
              <a:latin typeface="Arial"/>
            </a:endParaRPr>
          </a:p>
        </p:txBody>
      </p:sp>
      <p:sp>
        <p:nvSpPr>
          <p:cNvPr id="2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absichtigt der Arbeitgeber, nach Absatz 1 anzeigepflichtige Entlassungen vorzunehmen, hat er </a:t>
            </a:r>
            <a:r>
              <a:rPr b="1" lang="en-US" sz="1600" spc="-1" strike="noStrike">
                <a:solidFill>
                  <a:srgbClr val="000000"/>
                </a:solidFill>
                <a:latin typeface="Arial"/>
              </a:rPr>
              <a:t>dem Betriebsrat</a:t>
            </a:r>
            <a:r>
              <a:rPr b="0" lang="en-US" sz="1600" spc="-1" strike="noStrike">
                <a:solidFill>
                  <a:srgbClr val="000000"/>
                </a:solidFill>
                <a:latin typeface="Arial"/>
              </a:rPr>
              <a:t> </a:t>
            </a:r>
            <a:r>
              <a:rPr b="1" lang="en-US" sz="1600" spc="-1" strike="noStrike">
                <a:solidFill>
                  <a:srgbClr val="000000"/>
                </a:solidFill>
                <a:latin typeface="Arial"/>
              </a:rPr>
              <a:t>rechtzeitig</a:t>
            </a:r>
            <a:r>
              <a:rPr b="0" lang="en-US" sz="1600" spc="-1" strike="noStrike">
                <a:solidFill>
                  <a:srgbClr val="000000"/>
                </a:solidFill>
                <a:latin typeface="Arial"/>
              </a:rPr>
              <a:t> die zweckdienlichen Auskünfte zu erteilen und ihn </a:t>
            </a:r>
            <a:r>
              <a:rPr b="1" lang="en-US" sz="1600" spc="-1" strike="noStrike">
                <a:solidFill>
                  <a:srgbClr val="000000"/>
                </a:solidFill>
                <a:latin typeface="Arial"/>
              </a:rPr>
              <a:t>schriftlich</a:t>
            </a:r>
            <a:r>
              <a:rPr b="0" lang="en-US" sz="1600" spc="-1" strike="noStrike">
                <a:solidFill>
                  <a:srgbClr val="000000"/>
                </a:solidFill>
                <a:latin typeface="Arial"/>
              </a:rPr>
              <a:t> insbesondere zu </a:t>
            </a:r>
            <a:r>
              <a:rPr b="1" lang="en-US" sz="1600" spc="-1" strike="noStrike">
                <a:solidFill>
                  <a:srgbClr val="000000"/>
                </a:solidFill>
                <a:latin typeface="Arial"/>
              </a:rPr>
              <a:t>unterrichten</a:t>
            </a:r>
            <a:r>
              <a:rPr b="0" lang="en-US" sz="1600" spc="-1" strike="noStrike">
                <a:solidFill>
                  <a:srgbClr val="000000"/>
                </a:solidFill>
                <a:latin typeface="Arial"/>
              </a:rPr>
              <a:t> über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Gründe für die geplanten Entlassungen,</a:t>
            </a:r>
            <a:endParaRPr b="0" lang="en-US" sz="1600" spc="-1" strike="noStrike">
              <a:solidFill>
                <a:srgbClr val="000000"/>
              </a:solidFill>
              <a:latin typeface="Arial"/>
            </a:endParaRPr>
          </a:p>
          <a:p>
            <a:pPr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 die Zahl und die Berufsgruppen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3. die Zahl und die Berufsgruppen der in der Regel beschäftigt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4. den Zeitraum, in dem die Entlassungen vorgenommen werden soll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 die vorgesehenen Kriterien für die Auswahl der zu entlassenden Arbeitnehmer,</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6. die für die Berechnungen etwaiger Abfindungen vorgesehenen Kriteri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beitgeber und Betriebsrat haben insbesondere die Möglichkeiten zu beraten, Entlassungen zu vermeiden oder einzuschränken und ihre Folgen zu milder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C88986-B7DD-4635-8D73-BEE413269D1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teiligungsrechte des Betriebsrats Teil 2</a:t>
            </a:r>
            <a:endParaRPr b="1" lang="en-US" sz="2800" spc="-1" strike="noStrike">
              <a:solidFill>
                <a:srgbClr val="000000"/>
              </a:solidFill>
              <a:latin typeface="Arial"/>
            </a:endParaRPr>
          </a:p>
        </p:txBody>
      </p:sp>
      <p:sp>
        <p:nvSpPr>
          <p:cNvPr id="2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Arbeitgeber hat </a:t>
            </a:r>
            <a:r>
              <a:rPr b="1" lang="en-US" sz="1400" spc="-1" strike="noStrike">
                <a:solidFill>
                  <a:srgbClr val="000000"/>
                </a:solidFill>
                <a:latin typeface="Arial"/>
              </a:rPr>
              <a:t>gleichzeitig</a:t>
            </a:r>
            <a:r>
              <a:rPr b="0" lang="en-US" sz="1400" spc="-1" strike="noStrike">
                <a:solidFill>
                  <a:srgbClr val="000000"/>
                </a:solidFill>
                <a:latin typeface="Arial"/>
              </a:rPr>
              <a:t> der </a:t>
            </a:r>
            <a:r>
              <a:rPr b="1" lang="en-US" sz="1400" spc="-1" strike="noStrike">
                <a:solidFill>
                  <a:srgbClr val="000000"/>
                </a:solidFill>
                <a:latin typeface="Arial"/>
              </a:rPr>
              <a:t>Agentur für Arbeit</a:t>
            </a:r>
            <a:r>
              <a:rPr b="0" lang="en-US" sz="1400" spc="-1" strike="noStrike">
                <a:solidFill>
                  <a:srgbClr val="000000"/>
                </a:solidFill>
                <a:latin typeface="Arial"/>
              </a:rPr>
              <a:t> eine </a:t>
            </a:r>
            <a:r>
              <a:rPr b="1" lang="en-US" sz="1400" spc="-1" strike="noStrike">
                <a:solidFill>
                  <a:srgbClr val="000000"/>
                </a:solidFill>
                <a:latin typeface="Arial"/>
              </a:rPr>
              <a:t>Abschrift</a:t>
            </a:r>
            <a:r>
              <a:rPr b="0" lang="en-US" sz="1400" spc="-1" strike="noStrike">
                <a:solidFill>
                  <a:srgbClr val="000000"/>
                </a:solidFill>
                <a:latin typeface="Arial"/>
              </a:rPr>
              <a:t> der </a:t>
            </a:r>
            <a:r>
              <a:rPr b="1" lang="en-US" sz="1400" spc="-1" strike="noStrike">
                <a:solidFill>
                  <a:srgbClr val="000000"/>
                </a:solidFill>
                <a:latin typeface="Arial"/>
              </a:rPr>
              <a:t>Mitteilung</a:t>
            </a:r>
            <a:r>
              <a:rPr b="0" lang="en-US" sz="1400" spc="-1" strike="noStrike">
                <a:solidFill>
                  <a:srgbClr val="000000"/>
                </a:solidFill>
                <a:latin typeface="Arial"/>
              </a:rPr>
              <a:t> an den </a:t>
            </a:r>
            <a:r>
              <a:rPr b="1" lang="en-US" sz="1400" spc="-1" strike="noStrike">
                <a:solidFill>
                  <a:srgbClr val="000000"/>
                </a:solidFill>
                <a:latin typeface="Arial"/>
              </a:rPr>
              <a:t>Betriebsrat</a:t>
            </a:r>
            <a:r>
              <a:rPr b="0" lang="en-US" sz="1400" spc="-1" strike="noStrike">
                <a:solidFill>
                  <a:srgbClr val="000000"/>
                </a:solidFill>
                <a:latin typeface="Arial"/>
              </a:rPr>
              <a:t> zuzuleiten; sie muss </a:t>
            </a:r>
            <a:r>
              <a:rPr b="1" lang="en-US" sz="1400" spc="-1" strike="noStrike">
                <a:solidFill>
                  <a:srgbClr val="000000"/>
                </a:solidFill>
                <a:latin typeface="Arial"/>
              </a:rPr>
              <a:t>zumindest die in Absatz 2 Satz 1 Nr. 1 bis 5</a:t>
            </a:r>
            <a:r>
              <a:rPr b="0" lang="en-US" sz="1400" spc="-1" strike="noStrike">
                <a:solidFill>
                  <a:srgbClr val="000000"/>
                </a:solidFill>
                <a:latin typeface="Arial"/>
              </a:rPr>
              <a:t> </a:t>
            </a:r>
            <a:r>
              <a:rPr b="1" lang="en-US" sz="1400" spc="-1" strike="noStrike">
                <a:solidFill>
                  <a:srgbClr val="000000"/>
                </a:solidFill>
                <a:latin typeface="Arial"/>
              </a:rPr>
              <a:t>vorgeschriebenen</a:t>
            </a:r>
            <a:r>
              <a:rPr b="0" lang="en-US" sz="1400" spc="-1" strike="noStrike">
                <a:solidFill>
                  <a:srgbClr val="000000"/>
                </a:solidFill>
                <a:latin typeface="Arial"/>
              </a:rPr>
              <a:t> Angaben enthal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nzeige nach Absatz 1 ist </a:t>
            </a:r>
            <a:r>
              <a:rPr b="1" lang="en-US" sz="1400" spc="-1" strike="noStrike">
                <a:solidFill>
                  <a:srgbClr val="000000"/>
                </a:solidFill>
                <a:latin typeface="Arial"/>
              </a:rPr>
              <a:t>schriftlich unter Beifügung der Stellungnahme des Betriebsrates zu den Entlassungen</a:t>
            </a:r>
            <a:r>
              <a:rPr b="0" lang="en-US" sz="1400" spc="-1" strike="noStrike">
                <a:solidFill>
                  <a:srgbClr val="000000"/>
                </a:solidFill>
                <a:latin typeface="Arial"/>
              </a:rPr>
              <a:t> zu erstat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egt eine </a:t>
            </a:r>
            <a:r>
              <a:rPr b="1" lang="en-US" sz="1400" spc="-1" strike="noStrike">
                <a:solidFill>
                  <a:srgbClr val="000000"/>
                </a:solidFill>
                <a:latin typeface="Arial"/>
              </a:rPr>
              <a:t>Stellungnahme</a:t>
            </a:r>
            <a:r>
              <a:rPr b="0" lang="en-US" sz="1400" spc="-1" strike="noStrike">
                <a:solidFill>
                  <a:srgbClr val="000000"/>
                </a:solidFill>
                <a:latin typeface="Arial"/>
              </a:rPr>
              <a:t> des Betriebsrates </a:t>
            </a:r>
            <a:r>
              <a:rPr b="1" lang="en-US" sz="1400" spc="-1" strike="noStrike">
                <a:solidFill>
                  <a:srgbClr val="000000"/>
                </a:solidFill>
                <a:latin typeface="Arial"/>
              </a:rPr>
              <a:t>nicht</a:t>
            </a:r>
            <a:r>
              <a:rPr b="0" lang="en-US" sz="1400" spc="-1" strike="noStrike">
                <a:solidFill>
                  <a:srgbClr val="000000"/>
                </a:solidFill>
                <a:latin typeface="Arial"/>
              </a:rPr>
              <a:t> vor, so ist die Anzeige wirksam, wenn der </a:t>
            </a:r>
            <a:r>
              <a:rPr b="1" lang="en-US" sz="1400" spc="-1" strike="noStrike">
                <a:solidFill>
                  <a:srgbClr val="000000"/>
                </a:solidFill>
                <a:latin typeface="Arial"/>
              </a:rPr>
              <a:t>Arbeitgeber glaubhaft</a:t>
            </a:r>
            <a:r>
              <a:rPr b="0" lang="en-US" sz="1400" spc="-1" strike="noStrike">
                <a:solidFill>
                  <a:srgbClr val="000000"/>
                </a:solidFill>
                <a:latin typeface="Arial"/>
              </a:rPr>
              <a:t> macht, dass er den Betriebsrat </a:t>
            </a:r>
            <a:r>
              <a:rPr b="1" lang="en-US" sz="1400" spc="-1" strike="noStrike">
                <a:solidFill>
                  <a:srgbClr val="000000"/>
                </a:solidFill>
                <a:latin typeface="Arial"/>
              </a:rPr>
              <a:t>mindestens zwei Wochen</a:t>
            </a:r>
            <a:r>
              <a:rPr b="0" lang="en-US" sz="1400" spc="-1" strike="noStrike">
                <a:solidFill>
                  <a:srgbClr val="000000"/>
                </a:solidFill>
                <a:latin typeface="Arial"/>
              </a:rPr>
              <a:t> vor </a:t>
            </a:r>
            <a:r>
              <a:rPr b="1" lang="en-US" sz="1400" spc="-1" strike="noStrike">
                <a:solidFill>
                  <a:srgbClr val="000000"/>
                </a:solidFill>
                <a:latin typeface="Arial"/>
              </a:rPr>
              <a:t>Erstattung der Anzeige</a:t>
            </a:r>
            <a:r>
              <a:rPr b="0" lang="en-US" sz="1400" spc="-1" strike="noStrike">
                <a:solidFill>
                  <a:srgbClr val="000000"/>
                </a:solidFill>
                <a:latin typeface="Arial"/>
              </a:rPr>
              <a:t> nach Absatz 2 Satz 1 unterrichtet hat, und er den Stand der Beratungen darlegt.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a:t>
            </a:r>
            <a:r>
              <a:rPr b="1" lang="en-US" sz="1400" spc="-1" strike="noStrike">
                <a:solidFill>
                  <a:srgbClr val="000000"/>
                </a:solidFill>
                <a:latin typeface="Arial"/>
              </a:rPr>
              <a:t>Anzeige</a:t>
            </a:r>
            <a:r>
              <a:rPr b="0" lang="en-US" sz="1400" spc="-1" strike="noStrike">
                <a:solidFill>
                  <a:srgbClr val="000000"/>
                </a:solidFill>
                <a:latin typeface="Arial"/>
              </a:rPr>
              <a:t> muss </a:t>
            </a:r>
            <a:r>
              <a:rPr b="1" lang="en-US" sz="1400" spc="-1" strike="noStrike">
                <a:solidFill>
                  <a:srgbClr val="000000"/>
                </a:solidFill>
                <a:latin typeface="Arial"/>
              </a:rPr>
              <a:t>Angaben</a:t>
            </a:r>
            <a:r>
              <a:rPr b="0" lang="en-US" sz="1400" spc="-1" strike="noStrike">
                <a:solidFill>
                  <a:srgbClr val="000000"/>
                </a:solidFill>
                <a:latin typeface="Arial"/>
              </a:rPr>
              <a:t> über den Namen des Arbeitgebers, den Sitz und die Art des Betriebes enthalten, ferner die Gründe für die geplanten Entlassungen, die Zahl und die Berufsgruppen der zu entlassenden und der in der Regel beschäftigten Arbeitnehmer, den Zeitraum, in dem die Entlassungen vorgenommen werden sollen und die vorgesehenen Kriterien für die Auswahl der zu entlassenden Arbeitnehmer.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der Anzeige sollen ferner im Einvernehmen mit dem Betriebsrat für die Arbeitsvermittlung Angaben über Geschlecht, Alter, Beruf und Staatsangehörigkeit der zu entlassenden Arbeitnehmer gemacht werden. 6Der Arbeitgeber hat dem Betriebsrat eine Abschrift der Anzeige zuzuleiten. </a:t>
            </a: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Betriebsrat kann gegenüber der Agentur für Arbeit weitere Stellungnahmen abgeben. 8Er hat dem Arbeitgeber eine Abschrift der Stellungnahme zuzuleiten.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7E4857BB-ECAF-4E2F-881E-14A45F6A58E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mulare</a:t>
            </a:r>
            <a:endParaRPr b="1" lang="en-US" sz="2800" spc="-1" strike="noStrike">
              <a:solidFill>
                <a:srgbClr val="000000"/>
              </a:solidFill>
              <a:latin typeface="Arial"/>
            </a:endParaRPr>
          </a:p>
        </p:txBody>
      </p:sp>
      <p:sp>
        <p:nvSpPr>
          <p:cNvPr id="2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Formulare für die Massenentlassungsanzeige können entnommen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9999"/>
                </a:solidFill>
                <a:uFillTx/>
                <a:latin typeface="Arial"/>
                <a:hlinkClick r:id="rId1"/>
              </a:rPr>
              <a:t>www.arbeitsagentur.de/zentraler-Content/Vordrucke/A04-Vermittlung/Publikation/V-KSchG-Entlassungen-Anlage.pdf</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Sonstige für die Massenentlassung wichtige Formulare unter</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www.arbeitsagentur.de/nn_26726/Navigation/zentral/Formulare/Unternehmen/Entlassungen-Streik/Entlassungen-Streik-Nav.html</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DC682B-4ADB-4EED-97F4-D93AE28C5EE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rechnung der Zahl der Beendigungen</a:t>
            </a:r>
            <a:endParaRPr b="1" lang="en-US" sz="2800" spc="-1" strike="noStrike">
              <a:solidFill>
                <a:srgbClr val="000000"/>
              </a:solidFill>
              <a:latin typeface="Arial"/>
            </a:endParaRPr>
          </a:p>
        </p:txBody>
      </p:sp>
      <p:sp>
        <p:nvSpPr>
          <p:cNvPr id="2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e Beendigungen, die innerhalb einer Frist von 30 Tagen erklärt werden, sind zusammenzurechn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e Frist beginnt mit jeder Kündigung neu.</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rsprünglich nicht anzeigepflichtige Kündigungen können deshalb durch spätere  Kündigung noch anzeigepflichtig und damit unwirksam werd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8A6B34-4F6F-4F01-BDCF-9A1C6FFE532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2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ordnungsgemäße Massenentlassungsanzeige ist zu erstatten durch nachweisbaren Zugang bei der Agentur für Arbeit </a:t>
            </a:r>
            <a:r>
              <a:rPr b="1" lang="en-US" sz="2400" spc="-1" strike="noStrike">
                <a:solidFill>
                  <a:srgbClr val="000000"/>
                </a:solidFill>
                <a:latin typeface="Arial"/>
              </a:rPr>
              <a:t>bevor</a:t>
            </a:r>
            <a:r>
              <a:rPr b="0" lang="en-US" sz="2400" spc="-1" strike="noStrike">
                <a:solidFill>
                  <a:srgbClr val="000000"/>
                </a:solidFill>
                <a:latin typeface="Arial"/>
              </a:rPr>
              <a:t> die Kündigungen ausgespro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rd dies nicht beachtet, sind die entsprechenden Kündigungen alle allein deswegen unwirksam.</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4F649D0-8076-4266-BE52-5A536150539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lassungssperre (§ 18 KSchG)</a:t>
            </a:r>
            <a:endParaRPr b="1" lang="en-US" sz="2800" spc="-1" strike="noStrike">
              <a:solidFill>
                <a:srgbClr val="000000"/>
              </a:solidFill>
              <a:latin typeface="Arial"/>
            </a:endParaRPr>
          </a:p>
        </p:txBody>
      </p:sp>
      <p:sp>
        <p:nvSpPr>
          <p:cNvPr id="2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lassungen, die nach </a:t>
            </a:r>
            <a:r>
              <a:rPr b="0" lang="en-US" sz="2000" spc="-1" strike="noStrike" u="sng">
                <a:solidFill>
                  <a:srgbClr val="009999"/>
                </a:solidFill>
                <a:uFillTx/>
                <a:latin typeface="Arial"/>
                <a:hlinkClick r:id="rId1"/>
              </a:rPr>
              <a:t>§ 17</a:t>
            </a:r>
            <a:r>
              <a:rPr b="0" lang="en-US" sz="2000" spc="-1" strike="noStrike">
                <a:solidFill>
                  <a:srgbClr val="000000"/>
                </a:solidFill>
                <a:latin typeface="Arial"/>
              </a:rPr>
              <a:t> KSchG anzuzeigen sind, werden vor Ablauf eines Monats nach Eingang der Anzeige bei der Agentur für Arbeit nur mit deren Zustimmung wirksam; die Zustimmung kann auch rückwirkend bis zum Tage der Antragstellung erteilt werden.</a:t>
            </a:r>
            <a:br>
              <a:rPr sz="2000"/>
            </a:b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gentur für Arbeit kann im Einzelfall bestimmen, dass die Entlassungen nicht vor Ablauf von längstens zwei Monaten nach Eingang der Anzeige wirksam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lge:</a:t>
            </a:r>
            <a:r>
              <a:rPr b="0" lang="en-US"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nach Erstattung der Anzeige setzt die Kündigungsfrist in Ga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egt das Ende der Kündigungsfrist in der Sperrzeit, verlängert sich diese Frist bis zum Ende der Sperrfris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A46DBB-4C6D-4407-961D-27ED7BFBE9FE}" type="slidenum">
              <a:t>105</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 </a:t>
            </a:r>
            <a:endParaRPr b="1" lang="en-US" sz="2800" spc="-1" strike="noStrike">
              <a:solidFill>
                <a:srgbClr val="000000"/>
              </a:solidFill>
              <a:latin typeface="Arial"/>
            </a:endParaRPr>
          </a:p>
        </p:txBody>
      </p:sp>
      <p:sp>
        <p:nvSpPr>
          <p:cNvPr id="1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gt eine Unternehmerentscheidung vor, wird zu Gunsten des Arbeitgebers vermutet, dass sie aus sachlichen Gründen erfolgt is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Kündigungsschutzprozess hat daher grundsätzlich der Arbeitnehmer die Umstände darzulegen und im Streitfall zu beweisen, aus denen sich ergeben soll, dass die getroffene unternehmerische Entscheidung offensichtlich unsachlich, unvernünftig oder willkürlich ist. </a:t>
            </a:r>
            <a:br>
              <a:rPr sz="2400"/>
            </a:b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CBA3109-EAC9-4202-9AC4-8255EE19506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mutungswirkung</a:t>
            </a:r>
            <a:endParaRPr b="1" lang="en-US" sz="2800" spc="-1" strike="noStrike">
              <a:solidFill>
                <a:srgbClr val="000000"/>
              </a:solidFill>
              <a:latin typeface="Arial"/>
            </a:endParaRPr>
          </a:p>
        </p:txBody>
      </p:sp>
      <p:sp>
        <p:nvSpPr>
          <p:cNvPr id="1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n diesem beweisrechtlichen Grundsatz macht die Rechtsprechung aber Ausnahmen. Der aus Sicht des BAG drohenden Gefahr eines Rechtsmissbrauchs wird in besonderen Konstellationen mit Hilfe von beweisrechtlichen Mitteln entgegengetreten. Auch insoweit hilft dem Arbeitgeber eine Unternehmerentscheidung in schriftlicher 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D5A2E6-ECBE-497A-B5D1-6B91AFF8BB7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liche Gestaltung der Unternehmerentscheidung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AC4B5B9-3669-4F8C-9E3B-A20DA8FAE4D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ganisationsentscheidung</a:t>
            </a:r>
            <a:endParaRPr b="1" lang="en-US" sz="2800" spc="-1" strike="noStrike">
              <a:solidFill>
                <a:srgbClr val="000000"/>
              </a:solidFill>
              <a:latin typeface="Arial"/>
            </a:endParaRPr>
          </a:p>
        </p:txBody>
      </p:sp>
      <p:sp>
        <p:nvSpPr>
          <p:cNvPr id="1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lche Organisationsentscheidung wurde getroffen?</a:t>
            </a: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eispiele:</a:t>
            </a:r>
            <a:br>
              <a:rPr sz="1800"/>
            </a:b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illlegung eines Betriebs oder eines Betriebsteils oder einer</a:t>
            </a:r>
            <a:br>
              <a:rPr sz="1800"/>
            </a:br>
            <a:r>
              <a:rPr b="0" lang="en-US" sz="1800" spc="-1" strike="noStrike">
                <a:solidFill>
                  <a:srgbClr val="000000"/>
                </a:solidFill>
                <a:latin typeface="Arial"/>
              </a:rPr>
              <a:t>  Betriebsabteilung,</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Reduzierung der Maschinenzahl oder der Schichten,</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Einführung neuer Fertigungsmethod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Fremdvergabe von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Verlagerung von Aufgaben auf Dritte zur selbständigen Erledigung,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s Arbeitsvolumens, d.h. der zu erledigenden</a:t>
            </a:r>
            <a:br>
              <a:rPr sz="1800"/>
            </a:br>
            <a:r>
              <a:rPr b="0" lang="en-US" sz="1800" spc="-1" strike="noStrike">
                <a:solidFill>
                  <a:srgbClr val="000000"/>
                </a:solidFill>
                <a:latin typeface="Arial"/>
              </a:rPr>
              <a:t>  Aufgaben,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ine Verringerung der Arbeitnehmer-Stunden und damit der Zahl der</a:t>
            </a:r>
            <a:br>
              <a:rPr sz="1800"/>
            </a:br>
            <a:r>
              <a:rPr b="0" lang="en-US" sz="1800" spc="-1" strike="noStrike">
                <a:solidFill>
                  <a:srgbClr val="000000"/>
                </a:solidFill>
                <a:latin typeface="Arial"/>
              </a:rPr>
              <a:t>  Arbeitnehmer zur Erlegung eines bestimmten Arbeitsvolumens,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Streichung einer Hierarchieebene, </a:t>
            </a:r>
            <a:endParaRPr b="0" lang="en-US" sz="1800" spc="-1" strike="noStrike">
              <a:solidFill>
                <a:srgbClr val="000000"/>
              </a:solidFill>
              <a:latin typeface="Arial"/>
            </a:endParaRPr>
          </a:p>
          <a:p>
            <a:pPr>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Zusammenlegung von Arbeitsgebieten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9F6FD7-AAF7-4E79-BFDB-D78128DEBD7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 </a:t>
            </a:r>
            <a:endParaRPr b="1" lang="en-US" sz="2800" spc="-1" strike="noStrike">
              <a:solidFill>
                <a:srgbClr val="000000"/>
              </a:solidFill>
              <a:latin typeface="Arial"/>
            </a:endParaRPr>
          </a:p>
        </p:txBody>
      </p:sp>
      <p:sp>
        <p:nvSpPr>
          <p:cNvPr id="1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u="sng">
                <a:solidFill>
                  <a:srgbClr val="000000"/>
                </a:solidFill>
                <a:uFillTx/>
                <a:latin typeface="Arial"/>
              </a:rPr>
              <a:t>Verteilung des Arbeitsvolumens:</a:t>
            </a: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Arial"/>
              </a:rPr>
              <a:t>Besteht die Organisationsentscheidung des Arbeitgebers </a:t>
            </a:r>
            <a:r>
              <a:rPr b="0" lang="de-DE" sz="2100" spc="-1" strike="noStrike" u="sng">
                <a:solidFill>
                  <a:srgbClr val="000000"/>
                </a:solidFill>
                <a:uFillTx/>
                <a:latin typeface="Arial"/>
              </a:rPr>
              <a:t>lediglich</a:t>
            </a:r>
            <a:r>
              <a:rPr b="0" lang="de-DE" sz="2100" spc="-1" strike="noStrike">
                <a:solidFill>
                  <a:srgbClr val="000000"/>
                </a:solidFill>
                <a:latin typeface="Arial"/>
              </a:rPr>
              <a:t> darin, das bisher von dem zu kündigenden Arbeitnehmer erledigte Beschäftigungsvolumen anders zu verteilen und auf diese Weise den Arbeitsplatz entfallen zu lassen, ist zu empfehlen, die ständigen Arbeitsaufgaben des zu kündigenden  Arbeitnehmers zu atomisieren und die einzelnen Teile dann konkret anders zu organisieren, z. B. durch ersatzlosen Wegfall, durch Übertragung auf andere Arbeitnehmer zur zusätzlichen Miterledigung oder durch Übertragung auf Fremdunternehmen, d. h. Outsourcing.</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1B5D134A-E6CB-4168-A0E8-826F5EE90AE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rstellung eines Personalüberhangs</a:t>
            </a:r>
            <a:endParaRPr b="1" lang="en-US" sz="2800" spc="-1" strike="noStrike">
              <a:solidFill>
                <a:srgbClr val="000000"/>
              </a:solidFill>
              <a:latin typeface="Arial"/>
            </a:endParaRPr>
          </a:p>
        </p:txBody>
      </p:sp>
      <p:sp>
        <p:nvSpPr>
          <p:cNvPr id="1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7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000000"/>
                </a:solidFill>
                <a:uFillTx/>
                <a:latin typeface="Arial"/>
              </a:rPr>
              <a:t>Verteilung des Arbeitsvolumens:</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der Praxis hat es sich in einem solchen Fall bewährt, die einzelnen Arbeitsvorgänge des wegfallenden Arbeitsplatzes konkret und vollständig in einer Spalte einer Tabelle einzeln aufzulisten und in der benachbarten Spalte darzustellen, durch wen und an welchem Arbeitsplatz die einzeln aufgeführten Arbeitsvorgänge zukünftig mit erledigt werden oder ersatzlos entfallen und ggf. wie die Arbeiten ausgeführt werden sollen. </a:t>
            </a:r>
            <a:br>
              <a:rPr sz="2100"/>
            </a:b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ine derartige Auflistung bietet den zusätzlichen Vorteil, dass der Arbeitgeber die von ihm zu treffende Organisationsentscheidung noch einmal genau durchdenkt und außerdem gleichzeitig eine zuverlässige Informationsunterlage für das nach § 102 BetrVG durchzuführende Anhörungsverfahren bezüglich des Wegfalls des Arbeitsplatzes schafft.</a:t>
            </a:r>
            <a:r>
              <a:rPr b="0" lang="en-US" sz="2100" spc="-1" strike="noStrike" u="sng">
                <a:solidFill>
                  <a:srgbClr val="000000"/>
                </a:solidFill>
                <a:uFillTx/>
                <a:latin typeface="Arial"/>
              </a:rPr>
              <a:t> </a:t>
            </a:r>
            <a:br>
              <a:rPr sz="2100"/>
            </a:b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91A4F67B-1A3F-42D1-8983-C97D71C5093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pp bei Übertragung zusätzlicher Aufgaben</a:t>
            </a:r>
            <a:endParaRPr b="1" lang="en-US" sz="2400" spc="-1" strike="noStrike">
              <a:solidFill>
                <a:srgbClr val="000000"/>
              </a:solidFill>
              <a:latin typeface="Arial"/>
            </a:endParaRPr>
          </a:p>
        </p:txBody>
      </p:sp>
      <p:sp>
        <p:nvSpPr>
          <p:cNvPr id="1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Werden auf Mitarbeiter </a:t>
            </a:r>
            <a:r>
              <a:rPr b="0" lang="en-US" sz="2100" spc="-1" strike="noStrike" u="sng">
                <a:solidFill>
                  <a:srgbClr val="000000"/>
                </a:solidFill>
                <a:uFillTx/>
                <a:latin typeface="Arial"/>
              </a:rPr>
              <a:t>zusätzliche Aufgaben</a:t>
            </a:r>
            <a:r>
              <a:rPr b="0" lang="en-US" sz="2100" spc="-1" strike="noStrike">
                <a:solidFill>
                  <a:srgbClr val="000000"/>
                </a:solidFill>
                <a:latin typeface="Arial"/>
              </a:rPr>
              <a:t> übertragen, sollte auf diesem rechtlichen Hintergrund in der Organisationsentscheidung detailliert ausgeführt werden, aus welchen Gründen auf Dauer keine dauernden Mehrarbeitsstunden, d.h. keine überobligatorischen Leistungen, von den Arbeitnehmern erbracht werden müssen, die nach der Aufstellung in der schriftlichen Unternehmerentscheidung diese zusätzliche Aufgaben übernehmen. </a:t>
            </a: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 jedem Fall sollte der Arbeitgeber sich in der Organisationsentscheidung zusätzlich darauf berufen, dass er notfalls eine </a:t>
            </a:r>
            <a:r>
              <a:rPr b="0" lang="en-US" sz="2100" spc="-1" strike="noStrike" u="sng">
                <a:solidFill>
                  <a:srgbClr val="000000"/>
                </a:solidFill>
                <a:uFillTx/>
                <a:latin typeface="Arial"/>
              </a:rPr>
              <a:t>Arbeitsstreckung </a:t>
            </a:r>
            <a:r>
              <a:rPr b="0" lang="en-US" sz="2100" spc="-1" strike="noStrike">
                <a:solidFill>
                  <a:srgbClr val="000000"/>
                </a:solidFill>
                <a:latin typeface="Arial"/>
              </a:rPr>
              <a:t>bei den Arbeitnehmern in Kauf nimmt, auf die zusätzliche Aufgaben übertragen werden. Dies spricht gegen eine Leistungsverdichtung, die zu dauernden Mehrarbeitsstunden bei den Arbeitnehmern führen, die zusätzliche Aufgaben wahrnehmen.</a:t>
            </a:r>
            <a:endParaRPr b="0" lang="en-US" sz="2100" spc="-1" strike="noStrike">
              <a:solidFill>
                <a:srgbClr val="000000"/>
              </a:solidFill>
              <a:latin typeface="Arial"/>
            </a:endParaRPr>
          </a:p>
        </p:txBody>
      </p:sp>
      <p:sp>
        <p:nvSpPr>
          <p:cNvPr id="4" name="PlaceHolder 3"/>
          <p:cNvSpPr>
            <a:spLocks noGrp="1"/>
          </p:cNvSpPr>
          <p:nvPr>
            <p:ph type="sldNum" idx="1"/>
          </p:nvPr>
        </p:nvSpPr>
        <p:spPr/>
        <p:txBody>
          <a:bodyPr/>
          <a:p>
            <a:fld id="{20DD1E00-E36B-4E55-B7CB-9D8E648462A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Gründe für die getroffene Unternehmerentscheidung</a:t>
            </a:r>
            <a:endParaRPr b="1" lang="en-US" sz="2400" spc="-1" strike="noStrike">
              <a:solidFill>
                <a:srgbClr val="000000"/>
              </a:solidFill>
              <a:latin typeface="Arial"/>
            </a:endParaRPr>
          </a:p>
        </p:txBody>
      </p:sp>
      <p:sp>
        <p:nvSpPr>
          <p:cNvPr id="1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der Unternehmerentscheidung muss der Arbeitgeber regelmäßig zu seinen Beweggründen, die zur Unternehmerentscheidung geführt haben, </a:t>
            </a:r>
            <a:r>
              <a:rPr b="0" lang="en-US" sz="1800" spc="-1" strike="noStrike" u="sng">
                <a:solidFill>
                  <a:srgbClr val="000000"/>
                </a:solidFill>
                <a:uFillTx/>
                <a:latin typeface="Arial"/>
              </a:rPr>
              <a:t>nichts sagen</a:t>
            </a:r>
            <a:r>
              <a:rPr b="0" lang="en-US" sz="1800" spc="-1" strike="noStrike">
                <a:solidFill>
                  <a:srgbClr val="000000"/>
                </a:solidFill>
                <a:latin typeface="Arial"/>
              </a:rPr>
              <a:t>.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Hintergrund für die Entscheidung ist eine Frage der Unternehmenspolitik, die von den Gerichten regelmäßig nicht darauf hin überprüft werden darf, ob sie sachlich gerechtfertigt oder zweckmäßig ist. Insbesondere ist ein „dringendes“ betriebliches Erfordernis auch dann gegeben, wenn die Unternehmerentscheidung getroffen wird, um den Gewinn zu maximieren. </a:t>
            </a: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26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ers ist dies, wenn </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e Motive auch den Personalüberhang begründen </a:t>
            </a:r>
            <a:br>
              <a:rPr sz="1800"/>
            </a:br>
            <a:r>
              <a:rPr b="0" lang="en-US" sz="1800" spc="-1" strike="noStrike">
                <a:solidFill>
                  <a:srgbClr val="000000"/>
                </a:solidFill>
                <a:latin typeface="Arial"/>
              </a:rPr>
              <a:t>  (z.B. Umsatzrückgang, Auftragsrückgang) oder</a:t>
            </a:r>
            <a:endParaRPr b="0" lang="en-US" sz="1800" spc="-1" strike="noStrike">
              <a:solidFill>
                <a:srgbClr val="000000"/>
              </a:solidFill>
              <a:latin typeface="Arial"/>
            </a:endParaRPr>
          </a:p>
          <a:p>
            <a:pPr marL="12600" indent="-1260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vorbeugend“ ein Rechtsmissbrauch ausgeschlossen werden soll.</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FA66D5-D19B-40A1-84A4-9F9F9B988BF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18692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rsächlichkeit der Unternehmerentscheidung für den Wegfall des Arbeitsplatzes </a:t>
            </a:r>
            <a:endParaRPr b="1" lang="en-US" sz="2200" spc="-1" strike="noStrike">
              <a:solidFill>
                <a:srgbClr val="000000"/>
              </a:solidFill>
              <a:latin typeface="Arial"/>
            </a:endParaRPr>
          </a:p>
        </p:txBody>
      </p:sp>
      <p:sp>
        <p:nvSpPr>
          <p:cNvPr id="1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us der Unternehmerentscheidung, d.h. der Organisationsentscheidung, muss sich ergeben, dass spätestens zum Zeitpunkt der Beendigung des Arbeitsverhältnisses des von der betriebsbedingten Kündigung betroffenen Arbeitnehmers, d.h. mit Ablauf der Kündigungsfrist, der Beschäftigungsbedarf für den gekündigten Arbeitnehmer entfallen ist, weil im Betrieb keine Möglichkeit zu vertragsgemäßer Weiterbeschäftigung besteht.</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Folge:</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muss einen Termin angeben, zu dem die Unternehmerentscheidung umgesetzt, d.h. greifen, werden soll.</a:t>
            </a: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er Termin sollte datumsmäßig angegeben werden.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1DF2A7-C752-4F5C-94B0-86C2E3C5E82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lag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52AD76-2410-49AF-8FDB-31C4B00297C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ögliche Termine der Umsetzung</a:t>
            </a:r>
            <a:endParaRPr b="1" lang="en-US" sz="2800" spc="-1" strike="noStrike">
              <a:solidFill>
                <a:srgbClr val="000000"/>
              </a:solidFill>
              <a:latin typeface="Arial"/>
            </a:endParaRPr>
          </a:p>
        </p:txBody>
      </p:sp>
      <p:sp>
        <p:nvSpPr>
          <p:cNvPr id="1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1. Fall:</a:t>
            </a:r>
            <a:r>
              <a:rPr b="0" lang="en-US" sz="2400" spc="-1" strike="noStrike">
                <a:solidFill>
                  <a:srgbClr val="000000"/>
                </a:solidFill>
                <a:latin typeface="Arial"/>
              </a:rPr>
              <a:t> Sofort</a:t>
            </a: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Nachteil:</a:t>
            </a:r>
            <a:r>
              <a:rPr b="0" lang="en-US" sz="2400" spc="-1" strike="noStrike">
                <a:solidFill>
                  <a:srgbClr val="000000"/>
                </a:solidFill>
                <a:latin typeface="Arial"/>
              </a:rPr>
              <a:t> Zwar sofortige fristgerechte Kündigung aller</a:t>
            </a:r>
            <a:br>
              <a:rPr sz="2400"/>
            </a:br>
            <a:r>
              <a:rPr b="0" lang="en-US" sz="2400" spc="-1" strike="noStrike">
                <a:solidFill>
                  <a:srgbClr val="000000"/>
                </a:solidFill>
                <a:latin typeface="Arial"/>
              </a:rPr>
              <a:t>  betroffenen Arbeitnehmer, aber Beendigung der</a:t>
            </a:r>
            <a:br>
              <a:rPr sz="2400"/>
            </a:br>
            <a:r>
              <a:rPr b="0" lang="en-US" sz="2400" spc="-1" strike="noStrike">
                <a:solidFill>
                  <a:srgbClr val="000000"/>
                </a:solidFill>
                <a:latin typeface="Arial"/>
              </a:rPr>
              <a:t>  Arbeitsverhältnisse schrittweise mit Auslauf der</a:t>
            </a:r>
            <a:br>
              <a:rPr sz="2400"/>
            </a:br>
            <a:r>
              <a:rPr b="0" lang="en-US" sz="2400" spc="-1" strike="noStrike">
                <a:solidFill>
                  <a:srgbClr val="000000"/>
                </a:solidFill>
                <a:latin typeface="Arial"/>
              </a:rPr>
              <a:t>  Kündigungsfrist</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Fall:</a:t>
            </a:r>
            <a:r>
              <a:rPr b="0" lang="en-US" sz="2400" spc="-1" strike="noStrike">
                <a:solidFill>
                  <a:srgbClr val="000000"/>
                </a:solidFill>
                <a:latin typeface="Arial"/>
              </a:rPr>
              <a:t> Schrittweise mit Auslaufen der </a:t>
            </a:r>
            <a:br>
              <a:rPr sz="2400"/>
            </a:br>
            <a:r>
              <a:rPr b="0" lang="en-US" sz="2400" spc="-1" strike="noStrike">
                <a:solidFill>
                  <a:srgbClr val="000000"/>
                </a:solidFill>
                <a:latin typeface="Arial"/>
              </a:rPr>
              <a:t>            Kündigungsfristen</a:t>
            </a:r>
            <a:br>
              <a:rPr sz="2400"/>
            </a:br>
            <a:endParaRPr b="0" lang="en-US" sz="2400" spc="-1" strike="noStrike">
              <a:solidFill>
                <a:srgbClr val="000000"/>
              </a:solidFill>
              <a:latin typeface="Arial"/>
            </a:endParaRPr>
          </a:p>
          <a:p>
            <a:pPr marL="12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3. Fall:</a:t>
            </a:r>
            <a:r>
              <a:rPr b="0" lang="en-US" sz="2400" spc="-1" strike="noStrike">
                <a:solidFill>
                  <a:srgbClr val="000000"/>
                </a:solidFill>
                <a:latin typeface="Arial"/>
              </a:rPr>
              <a:t> Zu einem bestimmten späteren Termi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7E63FE6-3027-4F9B-A465-0105CCD5DBC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Wahl des Termins muss der Arbeitgeber dessen Auswirkungen auf die Beschäftigungsmöglichkeiten der betroffenen Arbeitnehmer und auf die Sozialauswahl bedenk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1:</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ch dem Tag der Umsetzung darf der betroffene Arbeitnehmer nicht mehr mit seiner geschuldeten Tätigkeit betraut werden, d.h. Fixkosten ohne „richtige“ Arbeitsleist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2AC2E1-C2D8-4B0D-A6E5-BEE65898C35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Fallen“ bei der Wahl des Termins</a:t>
            </a:r>
            <a:endParaRPr b="1" lang="en-US" sz="2800" spc="-1" strike="noStrike">
              <a:solidFill>
                <a:srgbClr val="000000"/>
              </a:solidFill>
              <a:latin typeface="Arial"/>
            </a:endParaRPr>
          </a:p>
        </p:txBody>
      </p:sp>
      <p:sp>
        <p:nvSpPr>
          <p:cNvPr id="1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2:</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der Organisationsentscheidung ist nachvollziehbar darzustellen, wie sich konkret die Organisationsänderung zu den einzelnen Terminen vollzieht und aus welchen Gründen es gerade dann bei dem Arbeitnehmer, dessen Kündigungsfrist abläuft, zum Wegfall des Arbeitsplatzes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all 3:</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ichen Kündigungsfristen nicht an den Termin heran, müssen sie verlänger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0678BF-27A8-4CA2-8E00-6530E44DA2D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r Fall X</a:t>
            </a:r>
            <a:endParaRPr b="1" lang="en-US" sz="2800" spc="-1" strike="noStrike">
              <a:solidFill>
                <a:srgbClr val="000000"/>
              </a:solidFill>
              <a:latin typeface="Arial"/>
            </a:endParaRPr>
          </a:p>
        </p:txBody>
      </p:sp>
      <p:sp>
        <p:nvSpPr>
          <p:cNvPr id="1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empfehlenswert ist, die Organisationsänderung schrittweise so vorzunehmen, dass die erforderlichen betriebsbedingten Kündigungen gleichsam in </a:t>
            </a:r>
            <a:r>
              <a:rPr b="0" lang="en-US" sz="2000" spc="-1" strike="noStrike" u="sng">
                <a:solidFill>
                  <a:srgbClr val="000000"/>
                </a:solidFill>
                <a:uFillTx/>
                <a:latin typeface="Arial"/>
              </a:rPr>
              <a:t>mehreren Wellen</a:t>
            </a:r>
            <a:r>
              <a:rPr b="0" lang="en-US" sz="2000" spc="-1" strike="noStrike">
                <a:solidFill>
                  <a:srgbClr val="000000"/>
                </a:solidFill>
                <a:latin typeface="Arial"/>
              </a:rPr>
              <a:t> zu erklären sind.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muss dann auch unter den insgesamt zu kündigenden Arbeitnehmern eine Sozialauswahl durchfüh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nächst ist den Arbeitnehmern zu kündigen, die die schlechtesten Sozialdaten aufweisen. Die sozial schwächeren Arbeitnehmer scheiden als letzte aus dem Betrieb aus und können mit den Restarbeiten beauftragt wer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9F1721-1A12-42E4-95D5-0B36AD80462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rstellung der Umsetzung der Unternehmerentscheidung </a:t>
            </a:r>
            <a:endParaRPr b="1" lang="en-US" sz="2400" spc="-1" strike="noStrike">
              <a:solidFill>
                <a:srgbClr val="000000"/>
              </a:solidFill>
              <a:latin typeface="Arial"/>
            </a:endParaRPr>
          </a:p>
        </p:txBody>
      </p:sp>
      <p:sp>
        <p:nvSpPr>
          <p:cNvPr id="1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 der schriftlichen Unternehmerentscheidung muss nicht hervorgehen, dass die in ihr enthaltene Organisationsänderung </a:t>
            </a:r>
            <a:r>
              <a:rPr b="0" lang="en-US" sz="2000" spc="-1" strike="noStrike" u="sng">
                <a:solidFill>
                  <a:srgbClr val="000000"/>
                </a:solidFill>
                <a:uFillTx/>
                <a:latin typeface="Arial"/>
              </a:rPr>
              <a:t>zum Zeitpunkt des Zugangs der Kündigung</a:t>
            </a:r>
            <a:r>
              <a:rPr b="0" lang="en-US" sz="2000" spc="-1" strike="noStrike">
                <a:solidFill>
                  <a:srgbClr val="000000"/>
                </a:solidFill>
                <a:latin typeface="Arial"/>
              </a:rPr>
              <a:t> bei den betroffenen Arbeitnehmer bereits umgesetzt und die Beschäftigungsmöglichkeit bereits dann entfallen sein wird. Beurteilungszeitpunkt für die soziale Rechtfertigung der betriebsbedingten Kündigung ist zwar der Zeitpunkt des Kündigungszugang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reichend ist aber, wenn sich aus der Unternehmerentscheidung die Prognose ergibt, dass bis zum Ablauf der Kündigungsfrist mit dem Wegfall der Beschäftigungsmöglichkeit für die zu kündigenden Arbeitnehmer zu rechnen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FB8B77-0192-4A48-8A7B-74CC347CC85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dizien für Umsetzung</a:t>
            </a:r>
            <a:endParaRPr b="1" lang="en-US" sz="2800" spc="-1" strike="noStrike">
              <a:solidFill>
                <a:srgbClr val="000000"/>
              </a:solidFill>
              <a:latin typeface="Arial"/>
            </a:endParaRPr>
          </a:p>
        </p:txBody>
      </p:sp>
      <p:sp>
        <p:nvSpPr>
          <p:cNvPr id="1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sprechende Fakten. d.h. Indizien,  hat der Arbeitgeber zu schaffen.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Arial"/>
              </a:rPr>
              <a:t>Beispiele:</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er Abschluss eines Interessenausgleichs,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itteilungen an Kunden, die über die beabsichtigte Organisationsänderung  </a:t>
            </a:r>
            <a:br>
              <a:rPr sz="1600"/>
            </a:br>
            <a:r>
              <a:rPr b="0" lang="en-US" sz="1600" spc="-1" strike="noStrike">
                <a:solidFill>
                  <a:srgbClr val="000000"/>
                </a:solidFill>
                <a:latin typeface="Arial"/>
              </a:rPr>
              <a:t>  informier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Kündigung von Mietverträgen hinsichtlich nicht mehr benötigter Hall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r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ine Unterrichtung des Betriebsrats,</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Kündigung aller betroffenen Arbeitnehmer,</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uflösung von Vereinbarungen mit Behörden,</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blehnung der Übernahme weiterer Aufträge gegenüber Kunden, </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Erstattung einer Massenentlassungsanzeige nach § 17 KSchG,</a:t>
            </a:r>
            <a:endParaRPr b="0" lang="en-US" sz="1600" spc="-1" strike="noStrike">
              <a:solidFill>
                <a:srgbClr val="000000"/>
              </a:solidFill>
              <a:latin typeface="Arial"/>
            </a:endParaRPr>
          </a:p>
          <a:p>
            <a:pPr>
              <a:lnSpc>
                <a:spcPct val="8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die Anhörung des Betriebsrats und der Abschluss eines Interessenausgleichs </a:t>
            </a:r>
            <a:br>
              <a:rPr sz="1600"/>
            </a:br>
            <a:r>
              <a:rPr b="0" lang="en-US" sz="1600" spc="-1" strike="noStrike">
                <a:solidFill>
                  <a:srgbClr val="000000"/>
                </a:solidFill>
                <a:latin typeface="Arial"/>
              </a:rPr>
              <a:t>  und Sozialplans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ch der tatsächliche Eintritt der prognostizierten Entwicklung, d.h. die spätere Umsetzung der Organisationsentscheidung, lässt Rückschlüsse auf die Ernsthaftigkeit und Plausibilität der Prognose zu.</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77F815-4C3F-4E5C-93A7-03E06C18D18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steller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6CFB56-40C5-4D3A-967C-B52A35A6FCC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eignete Aussteller</a:t>
            </a:r>
            <a:endParaRPr b="1" lang="en-US" sz="2800" spc="-1" strike="noStrike">
              <a:solidFill>
                <a:srgbClr val="000000"/>
              </a:solidFill>
              <a:latin typeface="Arial"/>
            </a:endParaRPr>
          </a:p>
        </p:txBody>
      </p:sp>
      <p:sp>
        <p:nvSpPr>
          <p:cNvPr id="1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roffen und damit unterschrieben werden muss die Unternehmerentscheidung von jemandem, der sie arbeitsrechtlich auch umsetzen kann, weil er arbeitsrechtlich zur Kündigung befugt is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4A5CFC-FDE4-493C-B73B-D6BC206FD46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 der Unternehmerentscheid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01914E-D374-4701-A09A-DE86E49EA2E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eitpunkt</a:t>
            </a:r>
            <a:endParaRPr b="1" lang="en-US" sz="2800" spc="-1" strike="noStrike">
              <a:solidFill>
                <a:srgbClr val="000000"/>
              </a:solidFill>
              <a:latin typeface="Arial"/>
            </a:endParaRPr>
          </a:p>
        </p:txBody>
      </p:sp>
      <p:sp>
        <p:nvSpPr>
          <p:cNvPr id="1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schriftliche Unternehmerentscheidung muss </a:t>
            </a:r>
            <a:r>
              <a:rPr b="0" lang="en-US" sz="2000" spc="-1" strike="noStrike" u="sng">
                <a:solidFill>
                  <a:srgbClr val="000000"/>
                </a:solidFill>
                <a:uFillTx/>
                <a:latin typeface="Arial"/>
              </a:rPr>
              <a:t>vor Zugang</a:t>
            </a:r>
            <a:r>
              <a:rPr b="0" lang="en-US" sz="2000" spc="-1" strike="noStrike">
                <a:solidFill>
                  <a:srgbClr val="000000"/>
                </a:solidFill>
                <a:latin typeface="Arial"/>
              </a:rPr>
              <a:t> der </a:t>
            </a:r>
            <a:r>
              <a:rPr b="0" lang="en-US" sz="2000" spc="-1" strike="noStrike" u="sng">
                <a:solidFill>
                  <a:srgbClr val="000000"/>
                </a:solidFill>
                <a:uFillTx/>
                <a:latin typeface="Arial"/>
              </a:rPr>
              <a:t>Kündigung</a:t>
            </a:r>
            <a:r>
              <a:rPr b="0" lang="en-US" sz="2000" spc="-1" strike="noStrike">
                <a:solidFill>
                  <a:srgbClr val="000000"/>
                </a:solidFill>
                <a:latin typeface="Arial"/>
              </a:rPr>
              <a:t> getroffen und damit unterzeichnet werden.</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er Zeitpunkt ist regelmäßig der maßgebliche Zeitpunkt für die Beurteilung der sozialen Rechtfertigung einer Kündigung und damit für die Beurteilung, ob ein dringendes betriebliches Erfordernis für eine betriebsbedingte Kündigung besteh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allein entscheidende zeitliche Zäsur ist der Zeitpunkt des Zugangs der Kündigung aber nicht immer. Besteht im Betrieb ein Betriebsrat, so ist die schriftliche Unternehmerentscheidung diesem im Rahmen des nach § 102 Abs. 1 BetrVG durchzuführenden Anhörungsverfahrens vorzulegen; ansonsten läuft der Arbeitgeber Gefahr, dass die Kündigung nach § 102 Abs. 1 Satz 3 BetrVG unwirksam  ist.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4CB0EE-1473-4494-A303-DD99C0B180E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bgrenzung der betriebsbedingten Kündigung</a:t>
            </a:r>
            <a:endParaRPr b="1" lang="en-US" sz="2400" spc="-1" strike="noStrike">
              <a:solidFill>
                <a:srgbClr val="000000"/>
              </a:solidFill>
              <a:latin typeface="Arial"/>
            </a:endParaRPr>
          </a:p>
        </p:txBody>
      </p:sp>
      <p:sp>
        <p:nvSpPr>
          <p:cNvPr id="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ordentliche Kündigung ist u. a. sozial gerechtfertigt, wenn sie</a:t>
            </a:r>
            <a:endParaRPr b="0" lang="en-US" sz="20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dringende betriebliche Erfordernisse bedingt ist </a:t>
            </a:r>
            <a:br>
              <a:rPr sz="1800"/>
            </a:br>
            <a:r>
              <a:rPr b="0" lang="en-US" sz="1800" spc="-1" strike="noStrike">
                <a:solidFill>
                  <a:srgbClr val="000000"/>
                </a:solidFill>
                <a:latin typeface="Arial"/>
              </a:rPr>
              <a:t>(§ 1 Abs. 2 Satz 1 KSchG)</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d</a:t>
            </a:r>
            <a:br>
              <a:rPr sz="1800"/>
            </a:b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ine andere Beschäftigungsmöglichkeit i. S. v. § 1 Abs. 2 Satz 2, </a:t>
            </a:r>
            <a:endParaRPr b="0" lang="en-US" sz="1800" spc="-1" strike="noStrike">
              <a:solidFill>
                <a:srgbClr val="000000"/>
              </a:solidFill>
              <a:latin typeface="Arial"/>
            </a:endParaRPr>
          </a:p>
          <a:p>
            <a:pPr lvl="1" marL="3715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 KSchG besteht</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bgrenzung:</a:t>
            </a:r>
            <a:endParaRPr b="0" lang="en-US" sz="20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e Ursache der Kündigung liegt im betrieblichen Bereich und nicht im persönlichen Bereich des Arbeitnehmers (Verhalten, Eignung, Gesundheitszustand)</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lnSpc>
                <a:spcPct val="8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s nicht der Fall, kommt ggf. nur eine verhaltensbedingte oder personenbedingte Kündigung in Betrach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CEC2F2-C1CA-4EBD-B399-2D4FCEADA43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 des betrieblichen Erfordernisse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28F200-D525-49BA-A8B1-F9D7F7895BA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inglichkeit</a:t>
            </a:r>
            <a:endParaRPr b="1" lang="en-US" sz="2800" spc="-1" strike="noStrike">
              <a:solidFill>
                <a:srgbClr val="000000"/>
              </a:solidFill>
              <a:latin typeface="Arial"/>
            </a:endParaRPr>
          </a:p>
        </p:txBody>
      </p:sp>
      <p:sp>
        <p:nvSpPr>
          <p:cNvPr id="1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gegeben, wenn das unternehmerische Konzept die Kündigung unvermeidlich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nglichkeit deshalb nicht gegeb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Änderungskündigung statt der Beendigungskündigung möglich is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nur vorübergehendem Arbeitsrückgang Kurzarbeit möglich ist (umstritten)</a:t>
            </a:r>
            <a:br>
              <a:rPr sz="2000"/>
            </a:b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erheblich ist, ob die durch das unternehmerische Konzept zu erwartenden Vorteile in einem vernünftigen Verhältnis zu den Nachteilen ste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C03EC7E-1363-4F0F-9902-FFAA08FBB2F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1" lang="en-US" sz="2800" spc="-1" strike="noStrike">
              <a:solidFill>
                <a:srgbClr val="000000"/>
              </a:solidFill>
              <a:latin typeface="Arial"/>
            </a:endParaRPr>
          </a:p>
        </p:txBody>
      </p:sp>
      <p:sp>
        <p:nvSpPr>
          <p:cNvPr id="1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ehlende Möglichkeit einer anderweitigen Beschäftigung</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EF9C73-94D7-4B6E-943B-1E33C427A1C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hältnismäßigkeitsgrundsatz</a:t>
            </a:r>
            <a:endParaRPr b="1" lang="en-US" sz="2800" spc="-1" strike="noStrike">
              <a:solidFill>
                <a:srgbClr val="000000"/>
              </a:solidFill>
              <a:latin typeface="Arial"/>
            </a:endParaRPr>
          </a:p>
        </p:txBody>
      </p:sp>
      <p:sp>
        <p:nvSpPr>
          <p:cNvPr id="1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betriebsbedingte Kündigung ist unter dem Gesichtspunkt der Verhältnismäßigkeit nur zulässig, wenn sie das „letzte“ Mittel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ündigung ist nicht sozial gerechtfertigt, wenn ein geeigneter anderer freier Arbeitsplatz im</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trieb</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nehmen</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onzern - nur wenn Versetzung vertraglich möglich -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Zuweisung eines freien Arbeitsplatzes durch</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eisungsrecht</a:t>
            </a: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Änderungskündig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3B849B7-1E7D-49D2-B4D0-FB48814A803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achtung der Sozialauswahl</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AF4EAC-F75D-473A-9333-05FB7DD8A03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chritte im Rahmen der Sozialauswahl</a:t>
            </a:r>
            <a:endParaRPr b="1" lang="en-US" sz="2800" spc="-1" strike="noStrike">
              <a:solidFill>
                <a:srgbClr val="000000"/>
              </a:solidFill>
              <a:latin typeface="Arial"/>
            </a:endParaRPr>
          </a:p>
        </p:txBody>
      </p:sp>
      <p:sp>
        <p:nvSpPr>
          <p:cNvPr id="1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timmung der in die Auswahl einzubezieh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gleichbaren Arbeitnehm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ststellung und Gewichtung der Sozialda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Stuf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schluss bzw. Überwindung der Sozialauswahl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3. Stufe)</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3028E9D-E960-47A1-9A8B-8EEFB1B3A0A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timmung der Vergleichsgruppe (1. Schritt)</a:t>
            </a:r>
            <a:endParaRPr b="1" lang="en-US" sz="2400" spc="-1" strike="noStrike">
              <a:solidFill>
                <a:srgbClr val="000000"/>
              </a:solidFill>
              <a:latin typeface="Arial"/>
            </a:endParaRPr>
          </a:p>
        </p:txBody>
      </p:sp>
      <p:sp>
        <p:nvSpPr>
          <p:cNvPr id="1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gleichbar sind (nur) alle Arbeitnehmer, die austauschbar sind; d. 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mittlung, welche Arbeitsplätze mit welchem</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gabenbereich objektiv wegfallen</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ntersuchung, ob im Betrieb Arbeitsplätze mi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nselben oder vergleichbaren Aufgabenbereich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rhanden sind</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geber muss in der Lage sein, 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fährdeten Arbeitnehmer, dessen Arbeitsplatz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fallen ist, auf diesen anderen Arbeitsplatz kraf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rektionsrechts zu versetzen </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selbe Hierarchieebene muss betroffen se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0F89F8-02C4-4F11-9790-095DD450AE8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öglichkeit der Versetzung kraft Direktionsrechts</a:t>
            </a:r>
            <a:endParaRPr b="1" lang="en-US" sz="2400" spc="-1" strike="noStrike">
              <a:solidFill>
                <a:srgbClr val="000000"/>
              </a:solidFill>
              <a:latin typeface="Arial"/>
            </a:endParaRPr>
          </a:p>
        </p:txBody>
      </p:sp>
      <p:sp>
        <p:nvSpPr>
          <p:cNvPr id="1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t der geschuldeten Arbeitsleistung ergibt si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s dem Arbeitsvertrag</a:t>
            </a:r>
            <a:br>
              <a:rPr sz="2000"/>
            </a:b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Tätigkeit nur fachlich umschrieben, kann dem Arbeitnehmer jede Tätigkeit zugewiesen werden, die sich innerhalb des vereinbarten Berufsbildes häl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t die zu leistende Tätigkeit nur generalisierend umschrieben, so können sämtliche Tätigkeiten zugewiesen werden, die billigem Ermessen entsprechen und bei Vertragsschluss voraussehbar waren</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urch vertragliche Direktionsklauseln kann das Weisungsrecht erweitert werd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Arbeitspflicht kann sich nachträglich auf ein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te Tätigkeit konkretisiert hab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57374C-0FEE-4C6C-BFB3-92482134E25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gleichbarkeit als betriebsbezogener Begriff</a:t>
            </a:r>
            <a:endParaRPr b="1" lang="en-US" sz="2400" spc="-1" strike="noStrike">
              <a:solidFill>
                <a:srgbClr val="000000"/>
              </a:solidFill>
              <a:latin typeface="Arial"/>
            </a:endParaRPr>
          </a:p>
        </p:txBody>
      </p:sp>
      <p:sp>
        <p:nvSpPr>
          <p:cNvPr id="1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Grundsatz:</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gesamten Betrieb - nicht Unternehmen und nicht Konzern! - festgestellt werden, ob vergleichbare Arbeitnehmer vorhanden sind.</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usnahme:</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t es dem Arbeitgeber nach dem Arbeitsvertrag möglich, den Arbeitnehmer auch in anderen Betrieben einzusetzen, ist die Prüfung der Vergleichbarkeit auch auf die Arbeitnehmer dieser Betriebe zu erstreck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23AF80-1571-43B9-8AAA-0DEDADD1ECC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Vollzeit- und Teilzeitarbeitnehmer</a:t>
            </a:r>
            <a:endParaRPr b="1" lang="en-US" sz="2800" spc="-1" strike="noStrike">
              <a:solidFill>
                <a:srgbClr val="000000"/>
              </a:solidFill>
              <a:latin typeface="Arial"/>
            </a:endParaRPr>
          </a:p>
        </p:txBody>
      </p:sp>
      <p:sp>
        <p:nvSpPr>
          <p:cNvPr id="1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Teilzeitkräfte sind nicht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eine Organisationsentscheidung getroffen hat, nach der bestimmte Arbeiten nur noch mit Vollzeitkräften erledigt werden sollen und diese Entscheidung nicht willkürlich ist</a:t>
            </a:r>
            <a:endParaRPr b="0" lang="en-US" sz="2000" spc="-1" strike="noStrike">
              <a:solidFill>
                <a:srgbClr val="000000"/>
              </a:solidFill>
              <a:latin typeface="Arial"/>
            </a:endParaRPr>
          </a:p>
          <a:p>
            <a:pPr lvl="1" marL="371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onsten vergleichbare Arbeitnehmer sind in die Sozialauswahl einzubeziehen, wenn</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nur ein bestimmtes Arbeitszeitkontingent abbauen will, ohne dass eine entsprechende Organisationsentscheidung zusätzlich vorliegt</a:t>
            </a:r>
            <a:endParaRPr b="0" lang="en-US" sz="2000" spc="-1" strike="noStrike">
              <a:solidFill>
                <a:srgbClr val="000000"/>
              </a:solidFill>
              <a:latin typeface="Arial"/>
            </a:endParaRPr>
          </a:p>
          <a:p>
            <a:pPr lvl="1" marL="37152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   </a:t>
            </a:r>
            <a:r>
              <a:rPr b="0" lang="en-US" sz="1300" spc="-1" strike="noStrike">
                <a:solidFill>
                  <a:srgbClr val="000000"/>
                </a:solidFill>
                <a:latin typeface="Arial"/>
              </a:rPr>
              <a:t>(BAG 3.12.1998 - 2 AZR 341/98; 12.8.1999 - 2 AZR 12/99)</a:t>
            </a:r>
            <a:endParaRPr b="0" lang="en-US" sz="1300" spc="-1" strike="noStrike">
              <a:solidFill>
                <a:srgbClr val="000000"/>
              </a:solidFill>
              <a:latin typeface="Arial"/>
            </a:endParaRPr>
          </a:p>
        </p:txBody>
      </p:sp>
      <p:sp>
        <p:nvSpPr>
          <p:cNvPr id="4" name="PlaceHolder 3"/>
          <p:cNvSpPr>
            <a:spLocks noGrp="1"/>
          </p:cNvSpPr>
          <p:nvPr>
            <p:ph type="sldNum" idx="1"/>
          </p:nvPr>
        </p:nvSpPr>
        <p:spPr/>
        <p:txBody>
          <a:bodyPr/>
          <a:p>
            <a:fld id="{43506CA8-4352-4786-BE47-BA37AD520D4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oraussetzungen</a:t>
            </a:r>
            <a:endParaRPr b="1" lang="en-US" sz="2800" spc="-1" strike="noStrike">
              <a:solidFill>
                <a:srgbClr val="000000"/>
              </a:solidFill>
              <a:latin typeface="Arial"/>
            </a:endParaRPr>
          </a:p>
        </p:txBody>
      </p:sp>
      <p:sp>
        <p:nvSpPr>
          <p:cNvPr id="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nehmerentscheid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dingt durch die Unternehmerentscheidung </a:t>
            </a:r>
            <a:br>
              <a:rPr sz="2400"/>
            </a:br>
            <a:r>
              <a:rPr b="0" lang="en-US" sz="2400" spc="-1" strike="noStrike">
                <a:solidFill>
                  <a:srgbClr val="000000"/>
                </a:solidFill>
                <a:latin typeface="Arial"/>
              </a:rPr>
              <a:t>  Wegfall des Arbeitsplatzes</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s betriebliche Erfordernis für den Wegfall des </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splatzes muss dringend sei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ehlende Möglichkeit einer anderweitigen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schäftigu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Ordnungsgemäße Sozialauswahl</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hörung des Betriebsrat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B8468F-7BFB-4A74-B39A-22DFA577FA1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Herausnahme von Arbeitnehmern aus der Vergleichbarkeit</a:t>
            </a:r>
            <a:endParaRPr b="1" lang="en-US" sz="2400" spc="-1" strike="noStrike">
              <a:solidFill>
                <a:srgbClr val="000000"/>
              </a:solidFill>
              <a:latin typeface="Arial"/>
            </a:endParaRPr>
          </a:p>
        </p:txBody>
      </p:sp>
      <p:sp>
        <p:nvSpPr>
          <p:cNvPr id="1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rauszunehmen sind Arbeitnehmer auf der 1. Stufe, bei denen die ordentliche Kündigung ausgeschlossen ist</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a:t>
            </a:r>
            <a:r>
              <a:rPr b="0" lang="en-US" sz="2400" spc="-1" strike="noStrike" u="sng">
                <a:solidFill>
                  <a:srgbClr val="000000"/>
                </a:solidFill>
                <a:uFillTx/>
                <a:latin typeface="Arial"/>
              </a:rPr>
              <a:t>kraft Gesetzes</a:t>
            </a:r>
            <a:r>
              <a:rPr b="0" lang="en-US" sz="2400" spc="-1" strike="noStrike">
                <a:solidFill>
                  <a:srgbClr val="000000"/>
                </a:solidFill>
                <a:latin typeface="Arial"/>
              </a:rPr>
              <a:t> z. B.</a:t>
            </a:r>
            <a:endParaRPr b="0" lang="en-US" sz="24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tglieder des Betriebsrates, Wahlbewerber</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erbehinderte, sofern Zustimmung nicht vorliegt</a:t>
            </a:r>
            <a:endParaRPr b="0" lang="en-US" sz="2000" spc="-1" strike="noStrike">
              <a:solidFill>
                <a:srgbClr val="000000"/>
              </a:solidFill>
              <a:latin typeface="Arial"/>
            </a:endParaRPr>
          </a:p>
          <a:p>
            <a:pPr lvl="1" marL="371520" indent="-181080">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wangere</a:t>
            </a:r>
            <a:endParaRPr b="0" lang="en-US" sz="20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Tarifvertrages</a:t>
            </a:r>
            <a:endParaRPr b="0" lang="en-US" sz="2400" spc="-1" strike="noStrike">
              <a:solidFill>
                <a:srgbClr val="000000"/>
              </a:solidFill>
              <a:latin typeface="Arial"/>
            </a:endParaRPr>
          </a:p>
          <a:p>
            <a:pPr>
              <a:lnSpc>
                <a:spcPct val="90000"/>
              </a:lnSpc>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u="sng">
                <a:solidFill>
                  <a:srgbClr val="000000"/>
                </a:solidFill>
                <a:uFillTx/>
                <a:latin typeface="Arial"/>
              </a:rPr>
              <a:t>kraft Einzelvertrages</a:t>
            </a:r>
            <a:br>
              <a:rPr sz="2400"/>
            </a:b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stritten ist, ob Arbeitnehmer herausgenommen werden können, die freigestellt oder noch lange arbeitsunfähig sind.</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5108F0-EC3D-43D9-A990-8C6ED03B211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25064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eststellung und Gewichtung der Sozialdaten </a:t>
            </a:r>
            <a:br>
              <a:rPr sz="2400"/>
            </a:br>
            <a:r>
              <a:rPr b="1" lang="en-US" sz="2400" spc="-1" strike="noStrike">
                <a:solidFill>
                  <a:srgbClr val="000000"/>
                </a:solidFill>
                <a:latin typeface="Arial"/>
              </a:rPr>
              <a:t>(2. Stufe)</a:t>
            </a:r>
            <a:endParaRPr b="1" lang="en-US" sz="2400" spc="-1" strike="noStrike">
              <a:solidFill>
                <a:srgbClr val="000000"/>
              </a:solidFill>
              <a:latin typeface="Arial"/>
            </a:endParaRPr>
          </a:p>
        </p:txBody>
      </p:sp>
      <p:sp>
        <p:nvSpPr>
          <p:cNvPr id="1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auf der 2. Stufe der </a:t>
            </a:r>
            <a:br>
              <a:rPr sz="2400"/>
            </a:br>
            <a:r>
              <a:rPr b="0" lang="en-US" sz="2400" spc="-1" strike="noStrike">
                <a:solidFill>
                  <a:srgbClr val="000000"/>
                </a:solidFill>
                <a:latin typeface="Arial"/>
              </a:rPr>
              <a:t>  Sozialauswahl unter den vergleichbaren</a:t>
            </a:r>
            <a:br>
              <a:rPr sz="2400"/>
            </a:br>
            <a:r>
              <a:rPr b="0" lang="en-US" sz="2400" spc="-1" strike="noStrike">
                <a:solidFill>
                  <a:srgbClr val="000000"/>
                </a:solidFill>
                <a:latin typeface="Arial"/>
              </a:rPr>
              <a:t>  Arbeitnehmern (nur noch) abwä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auer der Betriebszugehörigkei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bensalt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nterhaltspflichten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werbehinde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DC1BABB-6451-459B-8597-3517E97C887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mittlung der Sozialdaten</a:t>
            </a:r>
            <a:endParaRPr b="1" lang="en-US" sz="2800" spc="-1" strike="noStrike">
              <a:solidFill>
                <a:srgbClr val="000000"/>
              </a:solidFill>
              <a:latin typeface="Arial"/>
            </a:endParaRPr>
          </a:p>
        </p:txBody>
      </p:sp>
      <p:sp>
        <p:nvSpPr>
          <p:cNvPr id="1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er Arbeitgeber muss die Sozialdaten ermittel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e Quellen sind z. B.:</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teuerkarte</a:t>
            </a:r>
            <a:r>
              <a:rPr b="0" lang="en-US" sz="2400" spc="-1" strike="noStrike" u="sng">
                <a:solidFill>
                  <a:srgbClr val="000000"/>
                </a:solidFill>
                <a:uFillTx/>
                <a:latin typeface="Arial"/>
              </a:rPr>
              <a:t> </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fragebog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ersonalakt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E90247-162E-4014-B583-883A3954162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blem: Begriff der Unterhaltspflichten</a:t>
            </a:r>
            <a:endParaRPr b="1" lang="en-US" sz="2800" spc="-1" strike="noStrike">
              <a:solidFill>
                <a:srgbClr val="000000"/>
              </a:solidFill>
              <a:latin typeface="Arial"/>
            </a:endParaRPr>
          </a:p>
        </p:txBody>
      </p:sp>
      <p:sp>
        <p:nvSpPr>
          <p:cNvPr id="1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r Begriff der Unterhaltspflicht hebt an sich nicht auf die in die Lohnsteuerkarte eingetragenen Kinderfreibeträge ab, so dass es auf die tatsächlichen, nicht aber auf die in die Lohnsteuerkarte eingetragenen Daten ankommen dürfte. Den Bedürfnissen der Praxis ist ausreichend dadurch Rechnung getragen, dass der Arbeitgeber auf die ihm bekannten Daten vertrauen kann, wenn er keinen Anlass zu der Annahme hat, sie könnten nicht zutreffen. Dabei kann die Lohnsteuerkarte einen wichtigen Anhaltspunkt bieten.</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ührt der Arbeitgeber die Sozialauswahl, wie der Betriebsrat weiß, ausdrücklich nach den aus den Lohnsteuerkarten ersichtlich Daten durch, ist es aus seiner Sicht konsequent und zutreffend, allein diese Daten mitzuteilen, jedenfalls so lange der Betriebsrat nicht nachfragt. </a:t>
            </a:r>
            <a:endParaRPr b="0" lang="en-US" sz="1800" spc="-1" strike="noStrike">
              <a:solidFill>
                <a:srgbClr val="000000"/>
              </a:solidFill>
              <a:latin typeface="Arial"/>
            </a:endParaRPr>
          </a:p>
          <a:p>
            <a:pPr lvl="1" marL="37152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7.1.2008 - 2 AZR 405/06 </a:t>
            </a: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DB7E985D-852D-48A7-B30A-3337614752B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Umfang der Unterhaltspflichten</a:t>
            </a:r>
            <a:endParaRPr b="1" lang="en-US" sz="2800" spc="-1" strike="noStrike">
              <a:solidFill>
                <a:srgbClr val="000000"/>
              </a:solidFill>
              <a:latin typeface="Arial"/>
            </a:endParaRPr>
          </a:p>
        </p:txBody>
      </p:sp>
      <p:sp>
        <p:nvSpPr>
          <p:cNvPr id="1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n Unterhaltspflichten müssen </a:t>
            </a:r>
            <a:r>
              <a:rPr b="0" lang="en-US" sz="2400" spc="-1" strike="noStrike" u="sng">
                <a:solidFill>
                  <a:srgbClr val="000000"/>
                </a:solidFill>
                <a:uFillTx/>
                <a:latin typeface="Arial"/>
              </a:rPr>
              <a:t>nicht</a:t>
            </a:r>
            <a:r>
              <a:rPr b="0" lang="en-US" sz="2400" spc="-1" strike="noStrike">
                <a:solidFill>
                  <a:srgbClr val="000000"/>
                </a:solidFill>
                <a:latin typeface="Arial"/>
              </a:rPr>
              <a:t>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inkommen anderer Familienangehöriger</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oppelverdienst</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flegebedürftigkeit von Familienangehörigen usw.</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09A055-5EA3-4706-BCF1-A9B5E5EF878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wichtung der Sozialdaten</a:t>
            </a:r>
            <a:endParaRPr b="1" lang="en-US" sz="2800" spc="-1" strike="noStrike">
              <a:solidFill>
                <a:srgbClr val="000000"/>
              </a:solidFill>
              <a:latin typeface="Arial"/>
            </a:endParaRPr>
          </a:p>
        </p:txBody>
      </p:sp>
      <p:sp>
        <p:nvSpPr>
          <p:cNvPr id="1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hat eine Gesamtabwägung aller vier Kriterien stattzufind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der Gewichtung der vier Kriterien hat der Arbeitgeber einen Beurteilungsspielraum; er muss sie „ausreichend“ berücksichtig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ele Gerichte stellen aber vorrangig auf die Betriebszugehörigkeit ab.</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muss insbesondere beim Alter das AGG bedenk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3413C1-03CF-4CE5-91E8-E2313FAA6C6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Leistungsträgerklausel und Sicherung der </a:t>
            </a:r>
            <a:br>
              <a:rPr sz="2400"/>
            </a:br>
            <a:r>
              <a:rPr b="1" lang="en-US" sz="2400" spc="-1" strike="noStrike">
                <a:solidFill>
                  <a:srgbClr val="000000"/>
                </a:solidFill>
                <a:latin typeface="Arial"/>
              </a:rPr>
              <a:t> Personalstruktur (3.Stufe)</a:t>
            </a:r>
            <a:endParaRPr b="1" lang="en-US" sz="2400" spc="-1" strike="noStrike">
              <a:solidFill>
                <a:srgbClr val="000000"/>
              </a:solidFill>
              <a:latin typeface="Arial"/>
            </a:endParaRPr>
          </a:p>
        </p:txBody>
      </p:sp>
      <p:sp>
        <p:nvSpPr>
          <p:cNvPr id="1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 der 3. Stufe der Sozialauswahl kann der Arbeitgeber Arbeitnehmer aus der Sozialauswahl herausnehmen, wenn</a:t>
            </a:r>
            <a:endParaRPr b="0" lang="en-US" sz="2000" spc="-1" strike="noStrike">
              <a:solidFill>
                <a:srgbClr val="000000"/>
              </a:solidFill>
              <a:latin typeface="Arial"/>
            </a:endParaRPr>
          </a:p>
          <a:p>
            <a:pPr lvl="1" marL="101772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en Weiterbeschäftigung </a:t>
            </a:r>
            <a:r>
              <a:rPr b="0" lang="en-US" sz="2000" spc="-1" strike="noStrike" u="sng">
                <a:solidFill>
                  <a:srgbClr val="000000"/>
                </a:solidFill>
                <a:uFillTx/>
                <a:latin typeface="Arial"/>
              </a:rPr>
              <a:t>insbesondere </a:t>
            </a:r>
            <a:r>
              <a:rPr b="0" lang="en-US" sz="2000" spc="-1" strike="noStrike">
                <a:solidFill>
                  <a:srgbClr val="000000"/>
                </a:solidFill>
                <a:latin typeface="Arial"/>
              </a:rPr>
              <a:t>wegen ihre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enntnisse, Fähigkeiten und Leistungen</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g. Leistungsträge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1260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der zur Sicherung einer ausgewogenen Personalstruktur </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ersonalstrukturklausel“)</a:t>
            </a:r>
            <a:endParaRPr b="0" lang="en-US" sz="2000" spc="-1" strike="noStrike">
              <a:solidFill>
                <a:srgbClr val="000000"/>
              </a:solidFill>
              <a:latin typeface="Arial"/>
            </a:endParaRPr>
          </a:p>
          <a:p>
            <a:pPr marL="126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 berechtigten betrieblichen Interesse liegt.</a:t>
            </a:r>
            <a:endParaRPr b="0" lang="en-US" sz="2000" spc="-1" strike="noStrike">
              <a:solidFill>
                <a:srgbClr val="000000"/>
              </a:solidFill>
              <a:latin typeface="Arial"/>
            </a:endParaRPr>
          </a:p>
          <a:p>
            <a:pPr marL="126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EC66C3-5359-4882-BF61-D5D5B6CB99E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as „berechtigte betriebliche Interesse“</a:t>
            </a:r>
            <a:endParaRPr b="1" lang="en-US" sz="2800" spc="-1" strike="noStrike">
              <a:solidFill>
                <a:srgbClr val="000000"/>
              </a:solidFill>
              <a:latin typeface="Arial"/>
            </a:endParaRPr>
          </a:p>
        </p:txBody>
      </p:sp>
      <p:sp>
        <p:nvSpPr>
          <p:cNvPr id="1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as „berechtigte betriebliche Interesse“ ermöglicht eine Herausnahme von Arbeitnehmern aus der Sozialauswahl</a:t>
            </a:r>
            <a:endParaRPr b="0" lang="en-US" sz="2400" spc="-1" strike="noStrike">
              <a:solidFill>
                <a:srgbClr val="000000"/>
              </a:solidFill>
              <a:latin typeface="Arial"/>
            </a:endParaRPr>
          </a:p>
          <a:p>
            <a:pPr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Nützlichkeitserwägungen reichen aus (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Der Arbeitgeber ist frei darin, wie er die Kriterie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enntnisse, Fähigkeiten“ und „Leistungen“ bewerte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umstritten)</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en müssen nicht zusammen erfüllt sein, e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Kriterium reicht aus</a:t>
            </a:r>
            <a:endParaRPr b="0" lang="en-US" sz="2400" spc="-1" strike="noStrike">
              <a:solidFill>
                <a:srgbClr val="000000"/>
              </a:solidFill>
              <a:latin typeface="Arial"/>
            </a:endParaRPr>
          </a:p>
          <a:p>
            <a:pPr>
              <a:lnSpc>
                <a:spcPct val="90000"/>
              </a:lnSpc>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Auch nicht im Gesetz genannte Kriterien kommen in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  </a:t>
            </a:r>
            <a:r>
              <a:rPr b="0" lang="de-DE" sz="2400" spc="-1" strike="noStrike">
                <a:solidFill>
                  <a:srgbClr val="000000"/>
                </a:solidFill>
                <a:latin typeface="Arial"/>
              </a:rPr>
              <a:t>Betracht („insbesonder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5DFAAA-9286-4CA1-B89F-1A70E37EEA6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2124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inschränkung der Leistungsträgerklausel durch BAG</a:t>
            </a:r>
            <a:endParaRPr b="1" lang="en-US" sz="2400" spc="-1" strike="noStrike">
              <a:solidFill>
                <a:srgbClr val="000000"/>
              </a:solidFill>
              <a:latin typeface="Arial"/>
            </a:endParaRPr>
          </a:p>
        </p:txBody>
      </p:sp>
      <p:sp>
        <p:nvSpPr>
          <p:cNvPr id="1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Zur gleichlautenden früheren Regelung des § 1 Abs. 3 Satz 2 KSchG hat das BAG entschie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Bei der Herausnahme von Leistungsträgern aus der Sozialauswahl muss das Interesse des sozial schwächeren Arbeitnehmers gegen das betriebliche Interesse an der Herausnahme abgewogen werden.</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600" spc="-1" strike="noStrike">
                <a:solidFill>
                  <a:srgbClr val="000000"/>
                </a:solidFill>
                <a:latin typeface="Arial"/>
              </a:rPr>
              <a:t>Damit wird die Leistungsträgerklausel entwertet!</a:t>
            </a:r>
            <a:endParaRPr b="0" lang="en-US" sz="2600" spc="-1" strike="noStrike">
              <a:solidFill>
                <a:srgbClr val="000000"/>
              </a:solidFill>
              <a:latin typeface="Arial"/>
            </a:endParaRPr>
          </a:p>
        </p:txBody>
      </p:sp>
      <p:sp>
        <p:nvSpPr>
          <p:cNvPr id="4" name="PlaceHolder 3"/>
          <p:cNvSpPr>
            <a:spLocks noGrp="1"/>
          </p:cNvSpPr>
          <p:nvPr>
            <p:ph type="sldNum" idx="1"/>
          </p:nvPr>
        </p:nvSpPr>
        <p:spPr/>
        <p:txBody>
          <a:bodyPr/>
          <a:p>
            <a:fld id="{15F3148F-AC73-4C09-96BB-843395E839F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Personalstrukturklausel“</a:t>
            </a:r>
            <a:endParaRPr b="1" lang="en-US" sz="2800" spc="-1" strike="noStrike">
              <a:solidFill>
                <a:srgbClr val="000000"/>
              </a:solidFill>
              <a:latin typeface="Arial"/>
            </a:endParaRPr>
          </a:p>
        </p:txBody>
      </p:sp>
      <p:sp>
        <p:nvSpPr>
          <p:cNvPr id="1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Möglich ist nur die Sicherung einer ausgewogen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 nicht deren Schaffung</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Herausnahme ist nicht auf die Sicherung ein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usgewogenen </a:t>
            </a:r>
            <a:r>
              <a:rPr b="1" i="1" lang="de-DE" sz="2000" spc="-1" strike="noStrike">
                <a:solidFill>
                  <a:srgbClr val="000000"/>
                </a:solidFill>
                <a:latin typeface="Arial"/>
              </a:rPr>
              <a:t>Alter</a:t>
            </a:r>
            <a:r>
              <a:rPr b="0" lang="de-DE" sz="2000" spc="-1" strike="noStrike">
                <a:solidFill>
                  <a:srgbClr val="000000"/>
                </a:solidFill>
                <a:latin typeface="Arial"/>
              </a:rPr>
              <a:t>sstruktur beschränkt </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ründe in der Person oder im Verhalten des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s können ebenfalls ein berechtigtes</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triebliches Interesse begründen. Fraglich ist,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welche Qualität diese Gründe haben müss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u="sng">
                <a:solidFill>
                  <a:srgbClr val="000000"/>
                </a:solidFill>
                <a:uFillTx/>
                <a:latin typeface="Arial"/>
              </a:rPr>
              <a:t>Achtung:</a:t>
            </a:r>
            <a:r>
              <a:rPr b="0" lang="de-DE" sz="2000" spc="-1" strike="noStrike">
                <a:solidFill>
                  <a:srgbClr val="000000"/>
                </a:solidFill>
                <a:latin typeface="Arial"/>
              </a:rPr>
              <a:t> AGG macht die Klausel unberechenba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25C0AB-2913-446C-ADBB-6DC07F8758E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Unternehmerentscheidung </a:t>
            </a:r>
            <a:br>
              <a:rPr sz="2800"/>
            </a:br>
            <a:r>
              <a:rPr b="1" lang="en-US" sz="2800" spc="-1" strike="noStrike">
                <a:solidFill>
                  <a:srgbClr val="000000"/>
                </a:solidFill>
                <a:latin typeface="Arial"/>
              </a:rPr>
              <a:t>als Voraussetzung für den Wegfall </a:t>
            </a:r>
            <a:br>
              <a:rPr sz="2800"/>
            </a:br>
            <a:r>
              <a:rPr b="1" lang="en-US" sz="2800" spc="-1" strike="noStrike">
                <a:solidFill>
                  <a:srgbClr val="000000"/>
                </a:solidFill>
                <a:latin typeface="Arial"/>
              </a:rPr>
              <a:t>eines Arbeitsplatze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02167E-11EE-4A1B-88C4-86906E314DF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schränkung des Überprüfungsmaßstabes</a:t>
            </a:r>
            <a:endParaRPr b="1" lang="en-US" sz="2400" spc="-1" strike="noStrike">
              <a:solidFill>
                <a:srgbClr val="000000"/>
              </a:solidFill>
              <a:latin typeface="Arial"/>
            </a:endParaRPr>
          </a:p>
        </p:txBody>
      </p:sp>
      <p:sp>
        <p:nvSpPr>
          <p:cNvPr id="18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eingeschränkter Überprüfungsmaßstab gilt, wen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eine Auswahlrichtlinie zu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aufgestellt haben</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e Betriebspartner die Namen der zu kündigen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nehmer in einer Namensliste zu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teressenausgleich aufgeführt haben</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Sozialauswahl ist dann nur auf grobe Fehlerhaftigkeit überprüfbar.</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9F825C7-8230-438C-B34A-734D714F60A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12506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lfsmittel zur ordnungsgemäßen Durchführung der Sozialauswahl </a:t>
            </a:r>
            <a:endParaRPr b="1" lang="en-US" sz="2400" spc="-1" strike="noStrike">
              <a:solidFill>
                <a:srgbClr val="000000"/>
              </a:solidFill>
              <a:latin typeface="Arial"/>
            </a:endParaRPr>
          </a:p>
        </p:txBody>
      </p:sp>
      <p:sp>
        <p:nvSpPr>
          <p:cNvPr id="18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BU bietet Hilfsmittel zur Bestimmung der Sozialauswahl:</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xcel-Maske zur Sozialauswahl anfordern</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000000"/>
                </a:solidFill>
                <a:latin typeface="Arial"/>
              </a:rPr>
              <a:t>Eintragung aller Sozialdaten aller Arbeitnehmer in die Maske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ücksendung der ausgefüllten Maske an die VBU (Herrn Assessor Unger)</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rzfristige Übersendung der Auswertung </a:t>
            </a:r>
            <a:br>
              <a:rPr sz="2400"/>
            </a:br>
            <a:r>
              <a:rPr b="0" lang="en-US" sz="2400" spc="-1" strike="noStrike">
                <a:solidFill>
                  <a:srgbClr val="000000"/>
                </a:solidFill>
                <a:latin typeface="Arial"/>
              </a:rPr>
              <a:t>(des Rankings) an das Unternehm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74A03B9-6D20-4012-BA9B-566EB094A4E5}"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Auswahlrichtlinien</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94E177-EE3B-4DD3-B1CF-E6C85E2F513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andekommen von Auswahlrichtlinien</a:t>
            </a:r>
            <a:endParaRPr b="1" lang="en-US" sz="2800" spc="-1" strike="noStrike">
              <a:solidFill>
                <a:srgbClr val="000000"/>
              </a:solidFill>
              <a:latin typeface="Arial"/>
            </a:endParaRPr>
          </a:p>
        </p:txBody>
      </p:sp>
      <p:sp>
        <p:nvSpPr>
          <p:cNvPr id="18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Form</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triebsvereinbarung, deshalb Schriftform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rforderlich</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rmlose Regelungsabrede reicht nicht aus!</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nahme in Interessenausgleich möglich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tritt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58AF18-1D55-409A-8640-4736CE58D76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tbestimmungsrecht des Betriebsrates</a:t>
            </a:r>
            <a:endParaRPr b="1" lang="en-US" sz="2800" spc="-1" strike="noStrike">
              <a:solidFill>
                <a:srgbClr val="000000"/>
              </a:solidFill>
              <a:latin typeface="Arial"/>
            </a:endParaRPr>
          </a:p>
        </p:txBody>
      </p:sp>
      <p:sp>
        <p:nvSpPr>
          <p:cNvPr id="19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swahlrichtlinie nur wirksam, wenn Betriebsr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zugestimmt hat</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fehlender Einigung Anrufung Einigungsstell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öglich</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itiativrecht des Betriebsrates:</a:t>
            </a:r>
            <a:endParaRPr b="0" lang="en-US" sz="24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weniger als 500 Arbeitnehmer: Initiativrecht nur beim Arbeitgeber</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 hat mehr als 500 Arbeitnehmer: Initiativrecht auch beim Betriebsrat</a:t>
            </a:r>
            <a:endParaRPr b="0" lang="en-US" sz="2000" spc="-1" strike="noStrike">
              <a:solidFill>
                <a:srgbClr val="000000"/>
              </a:solidFill>
              <a:latin typeface="Arial"/>
            </a:endParaRPr>
          </a:p>
          <a:p>
            <a:pPr lvl="1" marL="371520" indent="-18108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i der Bestimmung der Betriebsgröße sind Leiharbeitnehmer nicht mit zu berücksichtigen</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4AB165-24CD-47C8-8152-204E60EF0E8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Inhalt der Auswahlrichtlinie</a:t>
            </a:r>
            <a:endParaRPr b="1" lang="en-US" sz="2800" spc="-1" strike="noStrike">
              <a:solidFill>
                <a:srgbClr val="000000"/>
              </a:solidFill>
              <a:latin typeface="Arial"/>
            </a:endParaRPr>
          </a:p>
        </p:txBody>
      </p:sp>
      <p:sp>
        <p:nvSpPr>
          <p:cNvPr id="19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Kriterien der Sozialauswahl nich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ehr notwendig, da nun gesetzlich festgeleg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wichtung der Sozialkriterien zueinan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2. Stufe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immung des Kreises der vergleichbaren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1. Stufe Sozialauswahl) (umstrit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stlegung der einer Sozialauswahl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ntgegenstehenden betrieblichen Bedürfnisse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mstrit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CBFE413-985D-441C-9CE0-2DF051C999C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11998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dnungsgemäße Anwendung der Auswahlrichtlinie</a:t>
            </a:r>
            <a:endParaRPr b="1" lang="en-US" sz="2400" spc="-1" strike="noStrike">
              <a:solidFill>
                <a:srgbClr val="000000"/>
              </a:solidFill>
              <a:latin typeface="Arial"/>
            </a:endParaRPr>
          </a:p>
        </p:txBody>
      </p:sp>
      <p:sp>
        <p:nvSpPr>
          <p:cNvPr id="1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geber muss Auswahlrichtlinie beachten, wenn diese</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htmäßig is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Vom Inhalt der Auswahlrichtlinie hängt es ab, ob Arbeitgeb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och eigenen Entscheidungsspielraum hat</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olgen einer fehlerhaften Anwendung:</a:t>
            </a:r>
            <a:endParaRPr b="0" lang="en-US" sz="20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rspruchsrecht des Betriebsrates</a:t>
            </a:r>
            <a:endParaRPr b="0" lang="en-US" sz="1800" spc="-1" strike="noStrike">
              <a:solidFill>
                <a:srgbClr val="000000"/>
              </a:solidFill>
              <a:latin typeface="Arial"/>
            </a:endParaRPr>
          </a:p>
          <a:p>
            <a:pPr lvl="1" marL="371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Folge:</a:t>
            </a:r>
            <a:r>
              <a:rPr b="0" lang="en-US" sz="1800" spc="-1" strike="noStrike">
                <a:solidFill>
                  <a:srgbClr val="000000"/>
                </a:solidFill>
                <a:latin typeface="Arial"/>
              </a:rPr>
              <a:t> Weiterbeschäftigungsanspruch des Arbeitnehmers</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ruft sich Arbeitnehmer im Kündigungsschutzprozess auf die fehlerhafte Anwendung, ist die Kündigung sozial nicht gerechtfertigt, wenn Betriebsrat widersprochen hat</a:t>
            </a:r>
            <a:endParaRPr b="0" lang="en-US" sz="1800" spc="-1" strike="noStrike">
              <a:solidFill>
                <a:srgbClr val="000000"/>
              </a:solidFill>
              <a:latin typeface="Arial"/>
            </a:endParaRPr>
          </a:p>
          <a:p>
            <a:pPr lvl="1" marL="371520" indent="-181080">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hlt es an einem Widerspruch, spricht im Rechtstreit eine Vermutung dafür, dass die Sozialauswahl nicht ordnungsgemäß war</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FE3B42-1208-4677-B398-CA930DB157A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12480" y="94896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aufgrund nicht rechtmäßiger Auswahlrichtlinie</a:t>
            </a:r>
            <a:endParaRPr b="1" lang="en-US" sz="2400" spc="-1" strike="noStrike">
              <a:solidFill>
                <a:srgbClr val="000000"/>
              </a:solidFill>
              <a:latin typeface="Arial"/>
            </a:endParaRPr>
          </a:p>
        </p:txBody>
      </p:sp>
      <p:sp>
        <p:nvSpPr>
          <p:cNvPr id="1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olge ist nicht in jedem Fall Sozialwidrigkeit der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ündigung</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rbeitgeber kann versuchen darzulegen, dass di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forderungen, die an eine ordnungsgemäße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zialauswahl gestellt werden, gewahrt sind. Es gib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inen Domino-Effek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A0FF75-8608-4B83-B702-12B44227793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ispiel einer Gewichtung</a:t>
            </a:r>
            <a:endParaRPr b="1" lang="en-US" sz="2800" spc="-1" strike="noStrike">
              <a:solidFill>
                <a:srgbClr val="000000"/>
              </a:solidFill>
              <a:latin typeface="Arial"/>
            </a:endParaRPr>
          </a:p>
        </p:txBody>
      </p:sp>
      <p:sp>
        <p:nvSpPr>
          <p:cNvPr id="19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  Soweit betriebsbedingte Kündigungen ausgesprochen werden müssen, werden bei der Sozialauswahl</a:t>
            </a:r>
            <a:br>
              <a:rPr sz="1200"/>
            </a:br>
            <a:r>
              <a:rPr b="0" lang="de-DE" sz="1200" spc="-1" strike="noStrike">
                <a:solidFill>
                  <a:srgbClr val="000000"/>
                </a:solidFill>
                <a:latin typeface="Arial"/>
              </a:rPr>
              <a:t>    folgende Auswahlrichtlinien zugrunde geleg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1. Für jedes Jahr der Betriebszugehörigkeit werden zwei Punkte angesetzt.</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2. Für jedes Lebensjahr wird ein Punkt angesetzt.</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oder: für jedes Lebensjahr zwischen 25 und 45 wird ein halber Punkt angesetzt, für jedes</a:t>
            </a:r>
            <a:br>
              <a:rPr sz="1200"/>
            </a:br>
            <a:r>
              <a:rPr b="0" lang="de-DE" sz="1200" spc="-1" strike="noStrike">
                <a:solidFill>
                  <a:srgbClr val="000000"/>
                </a:solidFill>
                <a:latin typeface="Arial"/>
              </a:rPr>
              <a:t>    Lebensjahr ab 45 wird ein ganzer Punkt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3. Für jedes unterhaltsberechtigtes Kind werden sechs Punkte angesetzt. Für Mitarbeiter, die</a:t>
            </a:r>
            <a:br>
              <a:rPr sz="1200"/>
            </a:br>
            <a:r>
              <a:rPr b="0" lang="de-DE" sz="1200" spc="-1" strike="noStrike">
                <a:solidFill>
                  <a:srgbClr val="000000"/>
                </a:solidFill>
                <a:latin typeface="Arial"/>
              </a:rPr>
              <a:t>    verheiratet sind oder in einer eingetragenen Lebenspartnerschaft leben, werden zusätzlich</a:t>
            </a:r>
            <a:br>
              <a:rPr sz="1200"/>
            </a:br>
            <a:r>
              <a:rPr b="0" lang="de-DE" sz="1200" spc="-1" strike="noStrike">
                <a:solidFill>
                  <a:srgbClr val="000000"/>
                </a:solidFill>
                <a:latin typeface="Arial"/>
              </a:rPr>
              <a:t>    zwei Punkte angesetzt; soweit sie Alleinverdiener sind, zusätzlich weitere vier Punkte.</a:t>
            </a: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r>
              <a:rPr b="0" lang="de-DE" sz="1200" spc="-1" strike="noStrike">
                <a:solidFill>
                  <a:srgbClr val="000000"/>
                </a:solidFill>
                <a:latin typeface="Arial"/>
              </a:rPr>
              <a:t>Soweit weitere nachgewiesene und erfüllte gesetzliche Unterhaltspflichten, z. B. gegenüber</a:t>
            </a:r>
            <a:br>
              <a:rPr sz="1200"/>
            </a:br>
            <a:r>
              <a:rPr b="0" lang="de-DE" sz="1200" spc="-1" strike="noStrike">
                <a:solidFill>
                  <a:srgbClr val="000000"/>
                </a:solidFill>
                <a:latin typeface="Arial"/>
              </a:rPr>
              <a:t>    Enkeln oder pflegebedürftigen Eltern bestehen, sind diese im Einzelfall durch den Ansatz wei-</a:t>
            </a:r>
            <a:br>
              <a:rPr sz="1200"/>
            </a:br>
            <a:r>
              <a:rPr b="0" lang="de-DE" sz="1200" spc="-1" strike="noStrike">
                <a:solidFill>
                  <a:srgbClr val="000000"/>
                </a:solidFill>
                <a:latin typeface="Arial"/>
              </a:rPr>
              <a:t>    terer Punkte zu berücksichtigen.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4. Für schwer behinderte Arbeitnehmer ab einem Grad der Behinderung von 50 und für Arbeit-</a:t>
            </a:r>
            <a:br>
              <a:rPr sz="1200"/>
            </a:br>
            <a:r>
              <a:rPr b="0" lang="de-DE" sz="1200" spc="-1" strike="noStrike">
                <a:solidFill>
                  <a:srgbClr val="000000"/>
                </a:solidFill>
                <a:latin typeface="Arial"/>
              </a:rPr>
              <a:t>    nehmer, die schwer behinderten Arbeitnehmern im Sinne des § 2 Abs. 3 SGB IX gleichgestellt</a:t>
            </a:r>
            <a:br>
              <a:rPr sz="1200"/>
            </a:br>
            <a:r>
              <a:rPr b="0" lang="de-DE" sz="1200" spc="-1" strike="noStrike">
                <a:solidFill>
                  <a:srgbClr val="000000"/>
                </a:solidFill>
                <a:latin typeface="Arial"/>
              </a:rPr>
              <a:t>    sind, werden fünf Punkte angesetzt.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 Bei der Berechnung des Lebensalters und der Betriebszugehörigkeit werden nur volle Jahre</a:t>
            </a:r>
            <a:br>
              <a:rPr sz="1200"/>
            </a:br>
            <a:r>
              <a:rPr b="0" lang="de-DE" sz="1200" spc="-1" strike="noStrike">
                <a:solidFill>
                  <a:srgbClr val="000000"/>
                </a:solidFill>
                <a:latin typeface="Arial"/>
              </a:rPr>
              <a:t>    berücksichtigt. Zeiträume von sechs Monaten oder mehr werden als volles Jahr, Zeiträume</a:t>
            </a:r>
            <a:br>
              <a:rPr sz="1200"/>
            </a:br>
            <a:r>
              <a:rPr b="0" lang="de-DE" sz="1200" spc="-1" strike="noStrike">
                <a:solidFill>
                  <a:srgbClr val="000000"/>
                </a:solidFill>
                <a:latin typeface="Arial"/>
              </a:rPr>
              <a:t>    von weniger als sechs Monaten werden nicht berücksichtigt. Stichtag für die Berechnung ist</a:t>
            </a:r>
            <a:br>
              <a:rPr sz="1200"/>
            </a:br>
            <a:r>
              <a:rPr b="0" lang="de-DE" sz="1200" spc="-1" strike="noStrike">
                <a:solidFill>
                  <a:srgbClr val="000000"/>
                </a:solidFill>
                <a:latin typeface="Arial"/>
              </a:rPr>
              <a:t>    der …</a:t>
            </a:r>
            <a:br>
              <a:rPr sz="1200"/>
            </a:br>
            <a:endParaRPr b="0" lang="en-US" sz="12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II. Die Sozialauswahl zwischen den vergleichbaren Arbeitnehmern erfolgt in einem ersten Schritt anhand</a:t>
            </a:r>
            <a:br>
              <a:rPr sz="1200"/>
            </a:br>
            <a:r>
              <a:rPr b="0" lang="de-DE" sz="1200" spc="-1" strike="noStrike">
                <a:solidFill>
                  <a:srgbClr val="000000"/>
                </a:solidFill>
                <a:latin typeface="Arial"/>
              </a:rPr>
              <a:t>    dieser Auswahlrichtlinie. In einem zweiten Schritt ist jeder Einzelfall darauf hin zu überprüfen, ob</a:t>
            </a:r>
            <a:br>
              <a:rPr sz="1200"/>
            </a:br>
            <a:r>
              <a:rPr b="0" lang="de-DE" sz="1200" spc="-1" strike="noStrike">
                <a:solidFill>
                  <a:srgbClr val="000000"/>
                </a:solidFill>
                <a:latin typeface="Arial"/>
              </a:rPr>
              <a:t>    besondere Umstände, wie z. B. unterschiedliche Chancen auf dem Arbeitsmarkt eine abweichende</a:t>
            </a:r>
            <a:br>
              <a:rPr sz="1200"/>
            </a:br>
            <a:r>
              <a:rPr b="0" lang="de-DE" sz="1200" spc="-1" strike="noStrike">
                <a:solidFill>
                  <a:srgbClr val="000000"/>
                </a:solidFill>
                <a:latin typeface="Arial"/>
              </a:rPr>
              <a:t>    Gewichtung erfordern. Unabhängig hiervon können bei der Sozialauswahl berechtigte betriebliche</a:t>
            </a:r>
            <a:br>
              <a:rPr sz="1200"/>
            </a:br>
            <a:r>
              <a:rPr b="0" lang="de-DE" sz="1200" spc="-1" strike="noStrike">
                <a:solidFill>
                  <a:srgbClr val="000000"/>
                </a:solidFill>
                <a:latin typeface="Arial"/>
              </a:rPr>
              <a:t>    Interessen i. S. von § 1 Abs. 3 Satz 2 KSchG berücksichtigt werden.“</a:t>
            </a:r>
            <a:endParaRPr b="0" lang="en-US" sz="1200" spc="-1" strike="noStrike">
              <a:solidFill>
                <a:srgbClr val="000000"/>
              </a:solidFill>
              <a:latin typeface="Arial"/>
            </a:endParaRPr>
          </a:p>
        </p:txBody>
      </p:sp>
      <p:sp>
        <p:nvSpPr>
          <p:cNvPr id="4" name="PlaceHolder 3"/>
          <p:cNvSpPr>
            <a:spLocks noGrp="1"/>
          </p:cNvSpPr>
          <p:nvPr>
            <p:ph type="sldNum" idx="1"/>
          </p:nvPr>
        </p:nvSpPr>
        <p:spPr/>
        <p:txBody>
          <a:bodyPr/>
          <a:p>
            <a:fld id="{F9466F2C-426C-486F-947E-A1BF7489FD1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leichterung der Sozialauswahl durch eine Namensliste zum Interessenausgleich</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6F839F-E67D-4EC0-ABDA-51F5DFB9CCC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taltende Unternehmerentscheidung</a:t>
            </a:r>
            <a:endParaRPr b="1" lang="en-US" sz="2800" spc="-1" strike="noStrike">
              <a:solidFill>
                <a:srgbClr val="000000"/>
              </a:solidFill>
              <a:latin typeface="Arial"/>
            </a:endParaRPr>
          </a:p>
        </p:txBody>
      </p:sp>
      <p:sp>
        <p:nvSpPr>
          <p:cNvPr id="9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u einer Verringerung des Personalbedarfs aus innerbetrieblichen Gründen (Gestaltende Unternehmerentscheidung) kommt es, wenn sich der Arbeitgeber zu einer organisatorischen Maßnahme entschließt, bei deren innerbetrieblicher Umsetzung das Bedürfnis für die Weiterbeschäftigung eines oder mehrerer Arbeitnehmer entfällt. Der Entschluss, eine bestimmte organisatorische Maßnahme durchzuführen, stellt die Unternehmerentscheidung und damit das betriebliche Erfordernis iSd § 1 Abs. 2 Satz 1 KSchG dar .</a:t>
            </a:r>
            <a:br>
              <a:rPr sz="2400"/>
            </a:b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Es bedarf einer Organisationsentscheid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997DF5-A51F-406D-8C88-0832940E5F3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esetzestext</a:t>
            </a:r>
            <a:endParaRPr b="1" lang="en-US" sz="2800" spc="-1" strike="noStrike">
              <a:solidFill>
                <a:srgbClr val="000000"/>
              </a:solidFill>
              <a:latin typeface="Arial"/>
            </a:endParaRPr>
          </a:p>
        </p:txBody>
      </p:sp>
      <p:sp>
        <p:nvSpPr>
          <p:cNvPr id="20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 1 Abs. 5 KSchG neuer Fassu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d bei einer Kündigung aufgrund einer Betriebsänderung nach § 111 des Betriebsverfassungsgesetzes die Arbeitnehmer, denen gekündigt werden soll, in einem Interessenausgleich zwischen Arbeitgeber und Betriebsrat namentlich bezeichnet, so wird vermutet, dass die Kündigung durch dringende betriebliche Erfordernisse im Sinne des Absatzes 2 bedingt sind. Die Sozialauswahl der Arbeitnehmer kann nur auf grobe Fehlerhaftigkeit überprüft werden. Die Sätze 1 und 2 gelten nicht, soweit sich die Sachlage nach Zustandekommen des Interessenausgleichs wesentlich geändert hat. Der Interessenausgleich nach Satz 1 ersetzt die Stellungnahme des Betriebsrates nach § 17 Abs. 3 Satz 2 KSch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E5F766-AEFB-4F6E-ABD0-4F595C1851F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chtliche Bedeutung</a:t>
            </a:r>
            <a:endParaRPr b="1" lang="en-US" sz="2800" spc="-1" strike="noStrike">
              <a:solidFill>
                <a:srgbClr val="000000"/>
              </a:solidFill>
              <a:latin typeface="Arial"/>
            </a:endParaRPr>
          </a:p>
        </p:txBody>
      </p:sp>
      <p:sp>
        <p:nvSpPr>
          <p:cNvPr id="20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Bedeutung: </a:t>
            </a:r>
            <a:br>
              <a:rPr sz="2000"/>
            </a:b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schränkung des Kündigungsschutzes bei betriebsbedingten Kündigungen</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2000" spc="-1" strike="noStrike">
                <a:solidFill>
                  <a:srgbClr val="000000"/>
                </a:solidFill>
                <a:latin typeface="Arial"/>
              </a:rPr>
              <a:t>Es wird vermutet, dass für die betriebsbedingte</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 ein dringendes betriebliches Erfordernis</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steht</a:t>
            </a:r>
            <a:br>
              <a:rPr sz="2000"/>
            </a:br>
            <a:endParaRPr b="0" lang="en-US" sz="2000" spc="-1" strike="noStrike">
              <a:solidFill>
                <a:srgbClr val="000000"/>
              </a:solidFill>
              <a:latin typeface="Arial"/>
            </a:endParaRPr>
          </a:p>
          <a:p>
            <a:pPr>
              <a:lnSpc>
                <a:spcPct val="11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e soziale Auswahl kann nur auf grobe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ehlerhaftigkeit überprüft werden (eingeschränkter </a:t>
            </a:r>
            <a:endParaRPr b="0" lang="en-US" sz="2000" spc="-1" strike="noStrike">
              <a:solidFill>
                <a:srgbClr val="000000"/>
              </a:solidFill>
              <a:latin typeface="Arial"/>
            </a:endParaRPr>
          </a:p>
          <a:p>
            <a:pPr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üfungsmaßstab)</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528C0D-A483-4A5C-9B0A-C9E05AC5A3B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zialauswahl und beschränkter Prüfungsmaßstab</a:t>
            </a:r>
            <a:endParaRPr b="1" lang="en-US" sz="2400" spc="-1" strike="noStrike">
              <a:solidFill>
                <a:srgbClr val="000000"/>
              </a:solidFill>
              <a:latin typeface="Arial"/>
            </a:endParaRPr>
          </a:p>
        </p:txBody>
      </p:sp>
      <p:sp>
        <p:nvSpPr>
          <p:cNvPr id="20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Beschränkung des Prüfungsmaßstabes auf grobe Fehlerhaftigkeit gilt für alle drei Stufen der Sozialauswahl:</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Bestimmung der in die Sozialauswahl einzubeziehend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rbeitnehmer</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Gewichtung der Grunddaten</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Herausnahme von Leistungsträgern bzw. Sicherung d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Personalstruktu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559D16A-1304-441F-A31F-3EB6C387132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225080" y="93672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einer ordnungsgemäßen Namensliste</a:t>
            </a:r>
            <a:endParaRPr b="1" lang="en-US" sz="2400" spc="-1" strike="noStrike">
              <a:solidFill>
                <a:srgbClr val="000000"/>
              </a:solidFill>
              <a:latin typeface="Arial"/>
            </a:endParaRPr>
          </a:p>
        </p:txBody>
      </p:sp>
      <p:sp>
        <p:nvSpPr>
          <p:cNvPr id="20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orliegen einer Betriebsänderung im Sinne des</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111 ff. BetrVG</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chriftform der Namensliste</a:t>
            </a:r>
            <a:endParaRPr b="0" lang="en-US" sz="24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amentliche Bezeichnung der Arbeitnehmer</a:t>
            </a:r>
            <a:endParaRPr b="0" lang="en-US" sz="2400" spc="-1" strike="noStrike">
              <a:solidFill>
                <a:srgbClr val="000000"/>
              </a:solidFill>
              <a:latin typeface="Arial"/>
            </a:endParaRPr>
          </a:p>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601"/>
              </a:spcBef>
              <a:buClr>
                <a:srgbClr val="3333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gabe der Kündigungsar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Änderungs- oder Beendigungskündig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BD55B8B-DED1-4C81-8A70-9161590A354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sentliche Änderung der Sachlage</a:t>
            </a:r>
            <a:endParaRPr b="1" lang="en-US" sz="2800" spc="-1" strike="noStrike">
              <a:solidFill>
                <a:srgbClr val="000000"/>
              </a:solidFill>
              <a:latin typeface="Arial"/>
            </a:endParaRPr>
          </a:p>
        </p:txBody>
      </p:sp>
      <p:sp>
        <p:nvSpPr>
          <p:cNvPr id="21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Vermutung des dringenden betrieblichen Erfordernisses und die Beschränkung der Sozialauswahl auf grobe Fehlerhaftigkeit greift trotz ordnungsgemäßer Namensliste nicht ein, wenn sich die Sachlage nach der Aufstellung der Namensliste </a:t>
            </a:r>
            <a:r>
              <a:rPr b="0" lang="en-US" sz="2400" spc="-1" strike="noStrike" u="sng">
                <a:solidFill>
                  <a:srgbClr val="000000"/>
                </a:solidFill>
                <a:uFillTx/>
                <a:latin typeface="TradeGothic Bold"/>
              </a:rPr>
              <a:t>wesentlich</a:t>
            </a:r>
            <a:r>
              <a:rPr b="0" lang="en-US" sz="2400" spc="-1" strike="noStrike">
                <a:solidFill>
                  <a:srgbClr val="000000"/>
                </a:solidFill>
                <a:latin typeface="Arial"/>
              </a:rPr>
              <a:t> änder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Hinweis:</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tuelle Änderungen können schon im Interessenausgleich bzw. in der Namensliste berücksicht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438F8E7-2944-4349-B3D6-C839EBDB477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 des Arbeitnehmers</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3C1CEF-3030-43BC-A3A5-76D08ECD70E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kunftsanspruch</a:t>
            </a:r>
            <a:endParaRPr b="1" lang="en-US" sz="2800" spc="-1" strike="noStrike">
              <a:solidFill>
                <a:srgbClr val="000000"/>
              </a:solidFill>
              <a:latin typeface="Arial"/>
            </a:endParaRPr>
          </a:p>
        </p:txBody>
      </p:sp>
      <p:sp>
        <p:nvSpPr>
          <p:cNvPr id="21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9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rbeitgeber muss von sich aus grds. dem Arbeitnehmer nicht die Gründe darlegen, die zu der getroffenen Sozialauswahl geführt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u="sng">
                <a:solidFill>
                  <a:srgbClr val="000000"/>
                </a:solidFill>
                <a:uFillTx/>
                <a:latin typeface="Arial"/>
              </a:rPr>
              <a:t>Arbeitnehmer kann aber vom Arbeitgeber verlangen, ihm die Gründe mitzuteilen</a:t>
            </a:r>
            <a:endParaRPr b="0" lang="en-US" sz="24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an den Inhalt einer entsprechenden Aufforderung sind keine übertriebenen Anforderungen zu stell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eine Frist gibt es nicht, auch noch im Prozess möglich</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hat ggf. - aus Beweisgründen schriftlich - die Gründe offen zu legen</a:t>
            </a:r>
            <a:endParaRPr b="0" lang="en-US" sz="2000" spc="-1" strike="noStrike">
              <a:solidFill>
                <a:srgbClr val="000000"/>
              </a:solidFill>
              <a:latin typeface="Arial"/>
            </a:endParaRPr>
          </a:p>
          <a:p>
            <a:pPr lvl="1" marL="367560" indent="-178920">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hat unverzüglich, d. h. ohne schuldhaftes Zögern, zu geschehen, andernfalls drohen Schadensersatzansprüch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B3EB38-AD2A-46C6-9DC2-731EB8DB2BB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triebsbedingte Kündigung besonderer Personengrupp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E957EE-F22F-4030-93C3-7346D70AEC7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erbehinderte Mensch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89900A-05C2-4445-B8ED-7A24A75BA89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rfordernis einer Zustimmung</a:t>
            </a:r>
            <a:endParaRPr b="1" lang="en-US" sz="2800" spc="-1" strike="noStrike">
              <a:solidFill>
                <a:srgbClr val="000000"/>
              </a:solidFill>
              <a:latin typeface="Arial"/>
            </a:endParaRPr>
          </a:p>
        </p:txBody>
      </p:sp>
      <p:sp>
        <p:nvSpPr>
          <p:cNvPr id="22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e Kündigung des Arbeitsverhältnisses eines schwerbehinderten Menschen durch den Arbeitgeber bedarf der vorherigen Zustimmung des Integrationsamtes</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e Zustimmung ist ausnahmsweise nicht erforderlich bei Arbeitnehmern </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deren Arbeitsverhältnis zum Zeitpunkt des Zugangs der Kündigungserklärung ohne </a:t>
            </a:r>
            <a:br>
              <a:rPr sz="1400"/>
            </a:br>
            <a:r>
              <a:rPr b="0" lang="en-US" sz="1400" spc="-1" strike="noStrike">
                <a:solidFill>
                  <a:srgbClr val="000000"/>
                </a:solidFill>
                <a:latin typeface="Arial"/>
              </a:rPr>
              <a:t>    Unterbrechung noch nicht länger als sechs Monate besteht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die auf Stellen im Sinne des </a:t>
            </a:r>
            <a:r>
              <a:rPr b="0" lang="en-US" sz="1400" spc="-1" strike="noStrike" u="sng">
                <a:solidFill>
                  <a:srgbClr val="009999"/>
                </a:solidFill>
                <a:uFillTx/>
                <a:latin typeface="Arial"/>
                <a:hlinkClick r:id="rId1"/>
              </a:rPr>
              <a:t>§ 73 Abs. 2 Nr. 2 bis 5</a:t>
            </a:r>
            <a:r>
              <a:rPr b="0" lang="en-US" sz="1400" spc="-1" strike="noStrike">
                <a:solidFill>
                  <a:srgbClr val="000000"/>
                </a:solidFill>
                <a:latin typeface="Arial"/>
              </a:rPr>
              <a:t> beschäftigt werden 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deren Arbeitsverhältnis durch Kündigung beendet wird, sofern sie</a:t>
            </a:r>
            <a:br>
              <a:rPr sz="1400"/>
            </a:br>
            <a:r>
              <a:rPr b="0" lang="en-US" sz="1400" spc="-1" strike="noStrike">
                <a:solidFill>
                  <a:srgbClr val="000000"/>
                </a:solidFill>
                <a:latin typeface="Arial"/>
              </a:rPr>
              <a:t>    entwe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s 58. Lebensjahr vollendet haben und Anspruch auf eine Abfindung, Entschädigung oder ähnliche Leistung auf Grund eines Sozialplane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der</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spruch auf Knappschaftsausgleichsleistung nach dem Sechsten Buch oder auf Anpassungsgeld für entlassene Arbeitnehmer des Bergbaus hab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enn der Arbeitgeber ihnen die Kündigungsabsicht rechtzeitig mitgeteilt hat und sie der beabsichtigten Kündigung bis zu deren Ausspruch nicht widersprechen.</a:t>
            </a:r>
            <a:endParaRPr b="0" lang="en-US" sz="1400" spc="-1" strike="noStrike">
              <a:solidFill>
                <a:srgbClr val="000000"/>
              </a:solidFill>
              <a:latin typeface="Arial"/>
            </a:endParaRPr>
          </a:p>
          <a:p>
            <a:pPr marL="126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sldNum" idx="1"/>
          </p:nvPr>
        </p:nvSpPr>
        <p:spPr/>
        <p:txBody>
          <a:bodyPr/>
          <a:p>
            <a:fld id="{A4F1D667-18FF-4CF9-8276-65C1C5FB94E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lbstbindende Unternehmerentscheidung </a:t>
            </a:r>
            <a:endParaRPr b="1" lang="en-US" sz="2800" spc="-1" strike="noStrike">
              <a:solidFill>
                <a:srgbClr val="000000"/>
              </a:solidFill>
              <a:latin typeface="Arial"/>
            </a:endParaRPr>
          </a:p>
        </p:txBody>
      </p:sp>
      <p:sp>
        <p:nvSpPr>
          <p:cNvPr id="9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l ein Arbeitsplatzüberhang allein aus außerbetrieblichen Gründen entstehen, bedarf es ebenfalls einer Unternehmerentscheidung, obwohl dies in der Rechtsprechung nicht deutlich zum Ausdruck komm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Beispiele</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ftragsrückgang</a:t>
            </a: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Umsatzrückgang</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3EF9A3-77FB-42DC-A88D-4131CD859C1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a:rPr>
              <a:t>Zustimmung durch Integrationsamt</a:t>
            </a:r>
            <a:endParaRPr b="1" lang="en-US" sz="2800" spc="-1" strike="noStrike">
              <a:solidFill>
                <a:srgbClr val="000000"/>
              </a:solidFill>
              <a:latin typeface="Arial"/>
            </a:endParaRPr>
          </a:p>
        </p:txBody>
      </p:sp>
      <p:sp>
        <p:nvSpPr>
          <p:cNvPr id="22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 Zustimmung zur Kündigung beantragt der Arbeitgeber bei dem für den Sitz des Betriebes oder der Dienststelle zuständigen Integrationsamts schriftlich.</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Begriff des Betriebes bestimmt sich nach dem Betriebsverfassungsgesetz.</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holt eine Stellungnahme des Betriebsrates oder Personalrates und der Schwerbehindertenvertretung ein und hört den schwerbehinderten Menschen a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wirkt in jeder Lage des Verfahrens auf eine gütliche Einigung hi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18780B-E878-4CB2-B6BB-CD54DC50EDB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scheidung des Integrationsamtes</a:t>
            </a:r>
            <a:endParaRPr b="1" lang="en-US" sz="2800" spc="-1" strike="noStrike">
              <a:solidFill>
                <a:srgbClr val="000000"/>
              </a:solidFill>
              <a:latin typeface="Arial"/>
            </a:endParaRPr>
          </a:p>
        </p:txBody>
      </p:sp>
      <p:sp>
        <p:nvSpPr>
          <p:cNvPr id="22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soll die Entscheidung, falls erforderlich auf Grund mündlicher Verhandlung, innerhalb eines Monats vom Tage des Eingangs des Antrages an treff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Entscheidung wird dem Arbeitgeber und dem schwerbehinderten Menschen zugestellt.  Der Bundesagentur für Arbeit wird eine Abschrift der Entscheidung übersand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Erteilt das Integrationsamt die Zustimmung zur Kündigung, kann der Arbeitgeber die Kündigung nur innerhalb eines Monats nach Zustellung erklären.</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4) Widerspruch und Anfechtungsklage gegen die Zustimmung des </a:t>
            </a:r>
            <a:br>
              <a:rPr sz="1600"/>
            </a:br>
            <a:r>
              <a:rPr b="0" lang="de-DE" sz="1600" spc="-1" strike="noStrike">
                <a:solidFill>
                  <a:srgbClr val="000000"/>
                </a:solidFill>
                <a:latin typeface="Arial"/>
              </a:rPr>
              <a:t>     Integrationsamtes zur Kündigung haben keine aufschiebende Wirkung.</a:t>
            </a:r>
            <a:br>
              <a:rPr sz="1600"/>
            </a:b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5) In den Fällen des </a:t>
            </a:r>
            <a:r>
              <a:rPr b="0" lang="de-DE" sz="1600" spc="-1" strike="noStrike" u="sng">
                <a:solidFill>
                  <a:srgbClr val="009999"/>
                </a:solidFill>
                <a:uFillTx/>
                <a:latin typeface="Arial"/>
                <a:hlinkClick r:id="rId1"/>
              </a:rPr>
              <a:t>§ 89 Abs. 1 Satz 1</a:t>
            </a:r>
            <a:r>
              <a:rPr b="0" lang="de-DE" sz="1600" spc="-1" strike="noStrike">
                <a:solidFill>
                  <a:srgbClr val="000000"/>
                </a:solidFill>
                <a:latin typeface="Arial"/>
              </a:rPr>
              <a:t> und </a:t>
            </a:r>
            <a:r>
              <a:rPr b="0" lang="de-DE" sz="1600" spc="-1" strike="noStrike" u="sng">
                <a:solidFill>
                  <a:srgbClr val="009999"/>
                </a:solidFill>
                <a:uFillTx/>
                <a:latin typeface="Arial"/>
                <a:hlinkClick r:id="rId2"/>
              </a:rPr>
              <a:t>Abs. 3</a:t>
            </a:r>
            <a:r>
              <a:rPr b="0" lang="de-DE" sz="1600" spc="-1" strike="noStrike">
                <a:solidFill>
                  <a:srgbClr val="000000"/>
                </a:solidFill>
                <a:latin typeface="Arial"/>
              </a:rPr>
              <a:t> gilt Absatz 1 mit der</a:t>
            </a:r>
            <a:br>
              <a:rPr sz="1600"/>
            </a:br>
            <a:r>
              <a:rPr b="0" lang="de-DE" sz="1600" spc="-1" strike="noStrike">
                <a:solidFill>
                  <a:srgbClr val="000000"/>
                </a:solidFill>
                <a:latin typeface="Arial"/>
              </a:rPr>
              <a:t>     Maßgabe, dass die Entscheidung innerhalb eines Monats vom Tage des</a:t>
            </a:r>
            <a:br>
              <a:rPr sz="1600"/>
            </a:br>
            <a:r>
              <a:rPr b="0" lang="de-DE" sz="1600" spc="-1" strike="noStrike">
                <a:solidFill>
                  <a:srgbClr val="000000"/>
                </a:solidFill>
                <a:latin typeface="Arial"/>
              </a:rPr>
              <a:t>     Eingangs des Antrages an zu treffen ist.  Wird innerhalb dieser Frist eine</a:t>
            </a:r>
            <a:br>
              <a:rPr sz="1600"/>
            </a:br>
            <a:r>
              <a:rPr b="0" lang="de-DE" sz="1600" spc="-1" strike="noStrike">
                <a:solidFill>
                  <a:srgbClr val="000000"/>
                </a:solidFill>
                <a:latin typeface="Arial"/>
              </a:rPr>
              <a:t>     Entscheidung nicht getroffen, gilt die Zustimmung als erteilt.  Die Absätze 3</a:t>
            </a:r>
            <a:br>
              <a:rPr sz="1600"/>
            </a:br>
            <a:r>
              <a:rPr b="0" lang="de-DE" sz="1600" spc="-1" strike="noStrike">
                <a:solidFill>
                  <a:srgbClr val="000000"/>
                </a:solidFill>
                <a:latin typeface="Arial"/>
              </a:rPr>
              <a:t>     und 4 gelten entsprechen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A34121D-E489-44C9-9587-654224AC3C1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inschränkung des Ermessens</a:t>
            </a:r>
            <a:endParaRPr b="1" lang="en-US" sz="2800" spc="-1" strike="noStrike">
              <a:solidFill>
                <a:srgbClr val="000000"/>
              </a:solidFill>
              <a:latin typeface="Arial"/>
            </a:endParaRPr>
          </a:p>
        </p:txBody>
      </p:sp>
      <p:sp>
        <p:nvSpPr>
          <p:cNvPr id="22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as Integrationsamt erteilt die Zustimmung bei Kündigungen in Betrieben, die nicht nur vorübergehend eingestellt oder aufgelöst werden, wenn zwischen dem Tage der Kündigung und dem Tage, bis zu dem Gehalt oder Lohn gezahlt wird, </a:t>
            </a:r>
            <a:r>
              <a:rPr b="0" lang="de-DE" sz="2000" spc="-1" strike="noStrike" u="sng">
                <a:solidFill>
                  <a:srgbClr val="000000"/>
                </a:solidFill>
                <a:uFillTx/>
                <a:latin typeface="Arial"/>
              </a:rPr>
              <a:t>mindestens drei Monate</a:t>
            </a:r>
            <a:r>
              <a:rPr b="0" lang="de-DE" sz="2000" spc="-1" strike="noStrike">
                <a:solidFill>
                  <a:srgbClr val="000000"/>
                </a:solidFill>
                <a:latin typeface="Arial"/>
              </a:rPr>
              <a:t> liegen.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 der gleichen Voraussetzung soll es die Zustimmung auch bei Kündigungen in Betrieben erteilen, die nicht nur vorübergehend wesentlich eingeschränkt werden, wenn die </a:t>
            </a:r>
            <a:r>
              <a:rPr b="0" lang="de-DE" sz="2000" spc="-1" strike="noStrike" u="sng">
                <a:solidFill>
                  <a:srgbClr val="000000"/>
                </a:solidFill>
                <a:uFillTx/>
                <a:latin typeface="Arial"/>
              </a:rPr>
              <a:t>Gesamtzahl</a:t>
            </a:r>
            <a:r>
              <a:rPr b="0" lang="de-DE" sz="2000" spc="-1" strike="noStrike">
                <a:solidFill>
                  <a:srgbClr val="000000"/>
                </a:solidFill>
                <a:latin typeface="Arial"/>
              </a:rPr>
              <a:t> der </a:t>
            </a:r>
            <a:r>
              <a:rPr b="0" lang="de-DE" sz="2000" spc="-1" strike="noStrike" u="sng">
                <a:solidFill>
                  <a:srgbClr val="000000"/>
                </a:solidFill>
                <a:uFillTx/>
                <a:latin typeface="Arial"/>
              </a:rPr>
              <a:t>weiterhin beschäftigten schwerbehinderten Menschen</a:t>
            </a:r>
            <a:r>
              <a:rPr b="0" lang="de-DE" sz="2000" spc="-1" strike="noStrike">
                <a:solidFill>
                  <a:srgbClr val="000000"/>
                </a:solidFill>
                <a:latin typeface="Arial"/>
              </a:rPr>
              <a:t> zur Erfüllung der Beschäftigungspflicht nach </a:t>
            </a:r>
            <a:r>
              <a:rPr b="0" lang="de-DE" sz="2000" spc="-1" strike="noStrike" u="sng">
                <a:solidFill>
                  <a:srgbClr val="009999"/>
                </a:solidFill>
                <a:uFillTx/>
                <a:latin typeface="Arial"/>
                <a:hlinkClick r:id="rId1"/>
              </a:rPr>
              <a:t>§ 71</a:t>
            </a:r>
            <a:r>
              <a:rPr b="0" lang="de-DE" sz="2000" spc="-1" strike="noStrike">
                <a:solidFill>
                  <a:srgbClr val="000000"/>
                </a:solidFill>
                <a:latin typeface="Arial"/>
              </a:rPr>
              <a:t> ausre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ies gilt nicht, wenn eine Weiterbeschäftigung auf einem anderen Arbeitsplatz desselben Betriebes oder auf einem freien Arbeitsplatz in einem anderen Betrieb desselben Arbeitgebers mit Einverständnis des schwerbehinderten Menschen möglich und für den Arbeitgeber zumutbar is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7D3A4F8-A0CC-4392-B612-6C18B11FB80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ßerordentliche Kündigung</a:t>
            </a:r>
            <a:endParaRPr b="1" lang="en-US" sz="2800" spc="-1" strike="noStrike">
              <a:solidFill>
                <a:srgbClr val="000000"/>
              </a:solidFill>
              <a:latin typeface="Arial"/>
            </a:endParaRPr>
          </a:p>
        </p:txBody>
      </p:sp>
      <p:sp>
        <p:nvSpPr>
          <p:cNvPr id="22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Vorschriften dieses Kapitels gelten mit Ausnahme von </a:t>
            </a:r>
            <a:r>
              <a:rPr b="0" lang="de-DE" sz="1600" spc="-1" strike="noStrike" u="sng">
                <a:solidFill>
                  <a:srgbClr val="009999"/>
                </a:solidFill>
                <a:uFillTx/>
                <a:latin typeface="Arial"/>
                <a:hlinkClick r:id="rId1"/>
              </a:rPr>
              <a:t>§ 86</a:t>
            </a:r>
            <a:r>
              <a:rPr b="0" lang="de-DE" sz="1600" spc="-1" strike="noStrike">
                <a:solidFill>
                  <a:srgbClr val="000000"/>
                </a:solidFill>
                <a:latin typeface="Arial"/>
              </a:rPr>
              <a:t> auch bei außerordentlicher Kündigung, soweit sich aus den folgenden Bestimmungen nichts Abweichendes ergib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Zustimmung zur Kündigung kann nur innerhalb von zwei Wochen beantragt werden; maßgebend ist der Eingang des Antrages bei dem Integrationsam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ie Frist beginnt mit dem Zeitpunkt, in dem der Arbeitgeber von den für die Kündigung maßgebenden Tatsachen Kenntnis erlang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Das Integrationsamt trifft die Entscheidung innerhalb von zwei Wochen vom Tage des Eingangs des Antrages an.  Wird innerhalb dieser Frist eine Entscheidung nicht getroffen, gilt die Zustimmung als erteil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as Integrationsamt soll die Zustimmung erteilen, wenn die Kündigung aus einem Grunde erfolgt, der nicht im Zusammenhang mit der Behinderung steht.</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 </a:t>
            </a:r>
            <a:r>
              <a:rPr b="0" lang="de-DE" sz="1600" spc="-1" strike="noStrike">
                <a:solidFill>
                  <a:srgbClr val="000000"/>
                </a:solidFill>
                <a:latin typeface="Arial"/>
              </a:rPr>
              <a:t>Die Kündigung kann auch nach Ablauf der Frist des </a:t>
            </a:r>
            <a:r>
              <a:rPr b="0" lang="de-DE" sz="1600" spc="-1" strike="noStrike" u="sng">
                <a:solidFill>
                  <a:srgbClr val="009999"/>
                </a:solidFill>
                <a:uFillTx/>
                <a:latin typeface="Arial"/>
                <a:hlinkClick r:id="rId2"/>
              </a:rPr>
              <a:t>§ 626 Abs. 2 Satz 1 des Bürgerlichen Gesetzbuchs</a:t>
            </a:r>
            <a:r>
              <a:rPr b="0" lang="de-DE" sz="1600" spc="-1" strike="noStrike">
                <a:solidFill>
                  <a:srgbClr val="000000"/>
                </a:solidFill>
                <a:latin typeface="Arial"/>
              </a:rPr>
              <a:t> erfolgen, wenn sie unverzüglich nach Erteilung der Zustimmung erklärt wird.</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4AE5A9-CE93-49AC-A3A8-87DADBF4B60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tglieder des Betriebsrat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25F248-4875-4628-8CA2-541EE53FFFA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 Kündigungsverbot</a:t>
            </a:r>
            <a:endParaRPr b="1" lang="en-US" sz="2800" spc="-1" strike="noStrike">
              <a:solidFill>
                <a:srgbClr val="000000"/>
              </a:solidFill>
              <a:latin typeface="Arial"/>
            </a:endParaRPr>
          </a:p>
        </p:txBody>
      </p:sp>
      <p:sp>
        <p:nvSpPr>
          <p:cNvPr id="23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fontScale="98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 Kündigung eines Mitglieds eines Betriebsrats, einer Jugend- und Auszubildendenvertretung ist unzulässig, es sei denn, dass Tatsachen vorliegen, die den Arbeitgeber zur Kündigung aus wichtigem Grund ohne Einhaltung einer Kündigungsfrist berechtigen, und dass die nach </a:t>
            </a:r>
            <a:r>
              <a:rPr b="0" lang="en-US" sz="2000" spc="-1" strike="noStrike" u="sng">
                <a:solidFill>
                  <a:srgbClr val="009999"/>
                </a:solidFill>
                <a:uFillTx/>
                <a:latin typeface="Arial"/>
                <a:hlinkClick r:id="rId1"/>
              </a:rPr>
              <a:t>§ 103 des Betriebsverfassungsgesetzes</a:t>
            </a:r>
            <a:r>
              <a:rPr b="0" lang="en-US" sz="2000" spc="-1" strike="noStrike">
                <a:solidFill>
                  <a:srgbClr val="000000"/>
                </a:solidFill>
                <a:latin typeface="Arial"/>
              </a:rPr>
              <a:t> erforderliche Zustimmung vorliegt oder durch gerichtliche Entscheidung ersetzt ist.</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Beendigung der Amtszeit ist die Kündigung eines Mitglieds eines Betriebsrats, einer Jugend- und Auszubildendenvertretung innerhalb eines Jahres, jeweils vom Zeitpunkt der Beendigung der Amtszeit an gerechnet, unzulässig, es sei denn, dass Tatsachen vorliegen, die den Arbeitgeber zur Kündigung aus wichtigem Grund ohne Einhaltung einer Kündigungsfrist berechtigen; dies gilt nicht, wenn die Beendigung der Mitgliedschaft auf einer gerichtlichen Entscheidung beruh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0BD6DF-F288-42E0-9538-9120EE1F324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Zustimmungserfordernis</a:t>
            </a:r>
            <a:endParaRPr b="1" lang="en-US" sz="2800" spc="-1" strike="noStrike">
              <a:solidFill>
                <a:srgbClr val="000000"/>
              </a:solidFill>
              <a:latin typeface="Arial"/>
            </a:endParaRPr>
          </a:p>
        </p:txBody>
      </p:sp>
      <p:sp>
        <p:nvSpPr>
          <p:cNvPr id="23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 außerordentliche Kündigung von Mitgliedern des Betriebsrats, der Jugend- und Auszubildendenvertretung, des Wahlvorstands sowie von Wahlbewerbern bedarf der Zustimmung des Betriebsrats.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weigert der Betriebsrat seine Zustimmung, so kann das Arbeitsgericht sie auf Antrag des Arbeitgebers ersetzen, wenn die außerordentliche Kündigung unter Berücksichtigung aller Umstände gerechtfertigt ist. In dem Verfahren vor dem Arbeitsgericht ist der betroffene Arbeitnehmer Beteiligter. </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90214A-3141-4469-94FA-6E18F41177A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nahmen</a:t>
            </a:r>
            <a:endParaRPr b="1" lang="en-US" sz="2800" spc="-1" strike="noStrike">
              <a:solidFill>
                <a:srgbClr val="000000"/>
              </a:solidFill>
              <a:latin typeface="Arial"/>
            </a:endParaRPr>
          </a:p>
        </p:txBody>
      </p:sp>
      <p:sp>
        <p:nvSpPr>
          <p:cNvPr id="23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der </a:t>
            </a:r>
            <a:r>
              <a:rPr b="0" lang="en-US" sz="2000" spc="-1" strike="noStrike" u="sng">
                <a:solidFill>
                  <a:srgbClr val="000000"/>
                </a:solidFill>
                <a:uFillTx/>
                <a:latin typeface="Arial"/>
              </a:rPr>
              <a:t>Betrieb</a:t>
            </a:r>
            <a:r>
              <a:rPr b="0" lang="en-US" sz="2000" spc="-1" strike="noStrike">
                <a:solidFill>
                  <a:srgbClr val="000000"/>
                </a:solidFill>
                <a:latin typeface="Arial"/>
              </a:rPr>
              <a:t> stillgelegt, so ist die Kündigung der in den</a:t>
            </a:r>
            <a:br>
              <a:rPr sz="2000"/>
            </a:br>
            <a:r>
              <a:rPr b="0" lang="en-US" sz="2000" spc="-1" strike="noStrike">
                <a:solidFill>
                  <a:srgbClr val="000000"/>
                </a:solidFill>
                <a:latin typeface="Arial"/>
              </a:rPr>
              <a:t>  Absätzen 1 bis 3 genannten Personen frühestens zum</a:t>
            </a:r>
            <a:br>
              <a:rPr sz="2000"/>
            </a:br>
            <a:r>
              <a:rPr b="0" lang="en-US" sz="2000" spc="-1" strike="noStrike">
                <a:solidFill>
                  <a:srgbClr val="000000"/>
                </a:solidFill>
                <a:latin typeface="Arial"/>
              </a:rPr>
              <a:t>  Zeitpunkt der Stilllegung zulässig, es sei denn, dass ihre</a:t>
            </a:r>
            <a:br>
              <a:rPr sz="2000"/>
            </a:br>
            <a:r>
              <a:rPr b="0" lang="en-US" sz="2000" spc="-1" strike="noStrike">
                <a:solidFill>
                  <a:srgbClr val="000000"/>
                </a:solidFill>
                <a:latin typeface="Arial"/>
              </a:rPr>
              <a:t>  Kündigung zu einem früheren Zeitpunkt durch zwingende</a:t>
            </a:r>
            <a:br>
              <a:rPr sz="2000"/>
            </a:br>
            <a:r>
              <a:rPr b="0" lang="en-US" sz="2000" spc="-1" strike="noStrike">
                <a:solidFill>
                  <a:srgbClr val="000000"/>
                </a:solidFill>
                <a:latin typeface="Arial"/>
              </a:rPr>
              <a:t>  betriebliche Erfordernisse bedingt ist.</a:t>
            </a:r>
            <a:endParaRPr b="0" lang="en-US" sz="2000" spc="-1" strike="noStrike">
              <a:solidFill>
                <a:srgbClr val="000000"/>
              </a:solidFill>
              <a:latin typeface="Arial"/>
            </a:endParaRPr>
          </a:p>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rd eine der genannten Personen in einer </a:t>
            </a:r>
            <a:r>
              <a:rPr b="0" lang="en-US" sz="2000" spc="-1" strike="noStrike" u="sng">
                <a:solidFill>
                  <a:srgbClr val="000000"/>
                </a:solidFill>
                <a:uFillTx/>
                <a:latin typeface="Arial"/>
              </a:rPr>
              <a:t>Betriebsabteilung</a:t>
            </a:r>
            <a:br>
              <a:rPr sz="2000"/>
            </a:br>
            <a:r>
              <a:rPr b="0" lang="en-US" sz="2000" spc="-1" strike="noStrike">
                <a:solidFill>
                  <a:srgbClr val="000000"/>
                </a:solidFill>
                <a:latin typeface="Arial"/>
              </a:rPr>
              <a:t>  beschäftigt, die stillgelegt wird, so ist sie in eine andere</a:t>
            </a:r>
            <a:br>
              <a:rPr sz="2000"/>
            </a:br>
            <a:r>
              <a:rPr b="0" lang="en-US" sz="2000" spc="-1" strike="noStrike">
                <a:solidFill>
                  <a:srgbClr val="000000"/>
                </a:solidFill>
                <a:latin typeface="Arial"/>
              </a:rPr>
              <a:t>  Betriebsabteilung zu übernehm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t dies aus betrieblichen Gründen nicht möglich, so findet auf ihre Kündigung die Vorschrift des Absatzes 4 über die Kündigung bei Stilllegung des Betriebs sinngemäß Anwendung.</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8ED404-EEE6-43C3-8F00-C210F95FC31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ngzeitkrank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814F618-E79F-4EB5-AE7E-0F7FDD0442A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sonderheiten</a:t>
            </a:r>
            <a:endParaRPr b="1" lang="en-US" sz="2800" spc="-1" strike="noStrike">
              <a:solidFill>
                <a:srgbClr val="000000"/>
              </a:solidFill>
              <a:latin typeface="Arial"/>
            </a:endParaRPr>
          </a:p>
        </p:txBody>
      </p:sp>
      <p:sp>
        <p:nvSpPr>
          <p:cNvPr id="24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Ist ein Arbeitnehmer lange Zeit arbeitsunfähig, kann der Arbeitgeber u. U. leicht belegen, dass durch die beabsichtigte Umstrukturierung und dem damit verbundenen Wegfall des Arbeitsplatz des Erkrankten keine Mehrarbeitsstunden bei Arbeitnehmern anfallen, die dessen Aufgaben übernehmen. Bereits während der Arbeitsunfähigkeit muss grds. die Arbeit anders verteilt gewesen sei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Auf die Sozialauswahl hat die lange Arbeitsunfähigkeit aber keine Auswirkungen zugunsten des Arbeitgebers.</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0E12FED-068C-4777-9ECB-E6847DF59565}"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Arial"/>
              </a:rPr>
              <a:t>Problem der selbstbindenden Entscheidung</a:t>
            </a:r>
            <a:endParaRPr b="1" lang="en-US" sz="2400" spc="-1" strike="noStrike">
              <a:solidFill>
                <a:srgbClr val="000000"/>
              </a:solidFill>
              <a:latin typeface="Arial"/>
            </a:endParaRPr>
          </a:p>
        </p:txBody>
      </p:sp>
      <p:sp>
        <p:nvSpPr>
          <p:cNvPr id="98" name="PlaceHolder 2"/>
          <p:cNvSpPr>
            <a:spLocks noGrp="1"/>
          </p:cNvSpPr>
          <p:nvPr>
            <p:ph/>
          </p:nvPr>
        </p:nvSpPr>
        <p:spPr>
          <a:xfrm>
            <a:off x="1158480" y="1436760"/>
            <a:ext cx="762012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 muss im Einzelnen und nachvollziehbar dargelegt werden, dass z. B. aufgrund des Auftragsrückgangs mangels ausreichenden Arbeitsanfalls ein Arbeitskräfteüberhang entst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es ist oftmals nicht möglich, da der Arbeitskräftebedarf, d. h. der Arbeitszeitbedarf, nicht proportional zurückgeht</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Lösung:</a:t>
            </a:r>
            <a:r>
              <a:rPr b="0" lang="en-US" sz="2400" spc="-1" strike="noStrike">
                <a:solidFill>
                  <a:srgbClr val="000000"/>
                </a:solidFill>
                <a:latin typeface="Arial"/>
              </a:rPr>
              <a:t>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sweichen auf gestaltende Unternehmerentscheidung</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DCC6C5-9C16-44AC-8D4E-38505D97D06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4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riflich unkündbare Arbeitnehmer</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B615EFD-A08A-477A-8855-92CB8AAFEA5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0 Nr. 4 EMTV</a:t>
            </a:r>
            <a:endParaRPr b="1" lang="en-US" sz="2800" spc="-1" strike="noStrike">
              <a:solidFill>
                <a:srgbClr val="000000"/>
              </a:solidFill>
              <a:latin typeface="Arial"/>
            </a:endParaRPr>
          </a:p>
        </p:txBody>
      </p:sp>
      <p:sp>
        <p:nvSpPr>
          <p:cNvPr id="24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chäftigte, die das 55., aber noch nicht das 65. Lebensjahr vollendet haben und dem Betrieb/Unternehmen zehn Jahre angehören, kann nur noch aus wichtigem Grund gekündigt werd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es gilt auch bei Änderungskündigungen im Einzelfall zum Zwecke der Entgeltminderung;</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ht jedoch</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allen sonstigen Änderungskündigungen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Betriebsänderungen, wenn ein anderer zumutbarer</a:t>
            </a:r>
            <a:br>
              <a:rPr sz="2000"/>
            </a:br>
            <a:r>
              <a:rPr b="0" lang="en-US" sz="2000" spc="-1" strike="noStrike">
                <a:solidFill>
                  <a:srgbClr val="000000"/>
                </a:solidFill>
                <a:latin typeface="Arial"/>
              </a:rPr>
              <a:t>  Arbeitsplatz nicht vorhanden ist, oder</a:t>
            </a:r>
            <a:endParaRPr b="0" lang="en-US" sz="2000" spc="-1" strike="noStrike">
              <a:solidFill>
                <a:srgbClr val="000000"/>
              </a:solidFill>
              <a:latin typeface="Arial"/>
            </a:endParaRPr>
          </a:p>
          <a:p>
            <a:pPr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i Zustimmung der Tarifvertragspartei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989E62-82EA-458F-AE9A-4AB10126BB1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a:t>
            </a:r>
            <a:endParaRPr b="1" lang="en-US" sz="2800" spc="-1" strike="noStrike">
              <a:solidFill>
                <a:srgbClr val="000000"/>
              </a:solidFill>
              <a:latin typeface="Arial"/>
            </a:endParaRPr>
          </a:p>
        </p:txBody>
      </p:sp>
      <p:sp>
        <p:nvSpPr>
          <p:cNvPr id="24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em gewerblichem Arbeitnehmer kann nach Vollendung des 55. Lebensjahres und einer ununterbrochenen Betriebszugehörigkeit von mindestens 10 Jahren bis zur Bewilligung des Altersruhegeldes, längstens jedoch bis zur Vollendung des 65. Lebensjahres, das Beschäftigungsverhältnis nur noch aus wichtigem Grund gekündigt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i Betriebsstilllegung ist die ordentliche Kündigung erst zum Zeitpunkt der endgültigen Produktionseinstellung zulässi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E9CB3B3-5994-43D2-B3BE-2B94439A5E0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2 TV Sicherung Textil - Ausnahmen</a:t>
            </a:r>
            <a:endParaRPr b="1" lang="en-US" sz="2800" spc="-1" strike="noStrike">
              <a:solidFill>
                <a:srgbClr val="000000"/>
              </a:solidFill>
              <a:latin typeface="Arial"/>
            </a:endParaRPr>
          </a:p>
        </p:txBody>
      </p:sp>
      <p:sp>
        <p:nvSpPr>
          <p:cNvPr id="24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nn der Betriebsrat nicht widerspricht, kann von Ziffer 1 abgewichen werd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ei Stilllegung wesentlicher Betriebsteile</a:t>
            </a:r>
            <a:endParaRPr b="0" lang="en-US" sz="2400" spc="-1" strike="noStrike">
              <a:solidFill>
                <a:srgbClr val="00000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 anderen sachlich begründbaren Fällen</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6C0D43-BC58-4D1C-9BA0-E2F4B81C72E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des Betriebsrats</a:t>
            </a:r>
            <a:r>
              <a:rPr b="0" lang="en-US" sz="2800" spc="-1" strike="noStrike">
                <a:solidFill>
                  <a:srgbClr val="000000"/>
                </a:solidFill>
                <a:latin typeface="Arial"/>
              </a:rPr>
              <a:t>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F9FA4A-514D-4BEA-8853-11735FA88AC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1</a:t>
            </a:r>
            <a:endParaRPr b="1" lang="en-US" sz="2800" spc="-1" strike="noStrike">
              <a:solidFill>
                <a:srgbClr val="000000"/>
              </a:solidFill>
              <a:latin typeface="Arial"/>
            </a:endParaRPr>
          </a:p>
        </p:txBody>
      </p:sp>
      <p:sp>
        <p:nvSpPr>
          <p:cNvPr id="25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Allgemeine Anforderungen</a:t>
            </a:r>
            <a:endParaRPr b="0" lang="en-US" sz="24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s Beweisgründen schriftlich</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der Kündigung (Änderungs- oder Beendigungskündig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ündigungsfrist (ordentliche oder außerordentliche Kündigung)</a:t>
            </a:r>
            <a:endParaRPr b="0" lang="en-US" sz="1800" spc="-1" strike="noStrike">
              <a:solidFill>
                <a:srgbClr val="000000"/>
              </a:solidFill>
              <a:latin typeface="Arial"/>
            </a:endParaRPr>
          </a:p>
          <a:p>
            <a:pPr lvl="1" marL="371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arstellung des Wegfalls des Arbeitsplatzes bei innerbetrieblichen Gründen</a:t>
            </a:r>
            <a:r>
              <a:rPr b="0" lang="en-US" sz="2000" spc="-1" strike="noStrike" u="sng">
                <a:solidFill>
                  <a:srgbClr val="000000"/>
                </a:solidFill>
                <a:uFillTx/>
                <a:latin typeface="Arial"/>
              </a:rPr>
              <a:t> </a:t>
            </a:r>
            <a:endParaRPr b="0" lang="en-US" sz="20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gestaltenden Unternehmerentscheidung (wer hat wann welche organisatorische oder technische Entscheidung getroffen?)</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der Umsetzung der Entscheidung</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aus welchen Gründen der Arbeitsplatz des Arbeitnehmers aufgrund der Umsetzung entfällt</a:t>
            </a:r>
            <a:endParaRPr b="0" lang="en-US" sz="1800" spc="-1" strike="noStrike">
              <a:solidFill>
                <a:srgbClr val="000000"/>
              </a:solidFill>
              <a:latin typeface="Arial"/>
            </a:endParaRPr>
          </a:p>
          <a:p>
            <a:pPr lvl="1" marL="371520" indent="-181080">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rlegung, warum der Rückgang der Beschäftigungsmöglichkeit von kündigungsrelevanter Dauer is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410811-8473-4EEF-9DDF-3855A970417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2</a:t>
            </a:r>
            <a:endParaRPr b="1" lang="en-US" sz="2800" spc="-1" strike="noStrike">
              <a:solidFill>
                <a:srgbClr val="000000"/>
              </a:solidFill>
              <a:latin typeface="Arial"/>
            </a:endParaRPr>
          </a:p>
        </p:txBody>
      </p:sp>
      <p:sp>
        <p:nvSpPr>
          <p:cNvPr id="25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s Wegfalls des Arbeitsplatzes bei außer-betrieblichen Gründen am Beispiel Auftragsrückgang</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elche Aufträge bisher für die Gruppe von Arbeitnehmern, denen der zu Kündigende angehört, vorhanden waren </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in welchem Umfang die Aufträge zurückgegangen sind</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rstellung, warum sich daraus der Wegfall des Arbeitsplatzes ergibt</a:t>
            </a:r>
            <a:endParaRPr b="0" lang="en-US" sz="1600" spc="-1" strike="noStrike">
              <a:solidFill>
                <a:srgbClr val="000000"/>
              </a:solidFill>
              <a:latin typeface="Arial"/>
            </a:endParaRPr>
          </a:p>
          <a:p>
            <a:pPr lvl="1" marL="37152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Darstellung der Sozialauswahl</a:t>
            </a:r>
            <a:endParaRPr b="0" lang="en-US" sz="20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abe der Namen der aus Sicht des Arbeitgebers vergleichbaren Arbeitnehmer</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zialdaten der vergleichbaren Arbeitnehmer, Achtung bei unterhaltspflichtigen Kindern (Ggf. „laut Lohnsteuerkarte“)</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wichtung der sozialen Kriterien, d. h. Gründe aus denen sich ergibt, warum die Auswahl gerade auf den zu kündigenden Arbeitnehmer entfallen ist</a:t>
            </a:r>
            <a:endParaRPr b="0" lang="en-US" sz="1600" spc="-1" strike="noStrike">
              <a:solidFill>
                <a:srgbClr val="000000"/>
              </a:solidFill>
              <a:latin typeface="Arial"/>
            </a:endParaRPr>
          </a:p>
          <a:p>
            <a:pPr lvl="1" marL="371520" indent="-181080">
              <a:lnSpc>
                <a:spcPct val="90000"/>
              </a:lnSpc>
              <a:spcBef>
                <a:spcPts val="400"/>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hlen vergleichbare Arbeitnehmer: Angabe, dass deshalb keine Auswahl erforderlich war</a:t>
            </a:r>
            <a:endParaRPr b="0" lang="en-US" sz="16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6E54C6-BE27-420A-9017-BB97C1F2CF9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hörung Teil 3</a:t>
            </a:r>
            <a:endParaRPr b="1" lang="en-US" sz="2800" spc="-1" strike="noStrike">
              <a:solidFill>
                <a:srgbClr val="000000"/>
              </a:solidFill>
              <a:latin typeface="Arial"/>
            </a:endParaRPr>
          </a:p>
        </p:txBody>
      </p:sp>
      <p:sp>
        <p:nvSpPr>
          <p:cNvPr id="25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Hat der Arbeitgeber aufgrund der Leistungsträgerklausel oder Personalstrukturklausel bestimmte Arbeitnehmer aus der Sozialauswahl herausgenommen, hat er dem Betriebsrat zusätzlich mitzuteil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Namen der Arbeitnehmer</a:t>
            </a:r>
            <a:endParaRPr b="0" lang="en-US" sz="2400" spc="-1" strike="noStrike">
              <a:solidFill>
                <a:srgbClr val="000000"/>
              </a:solidFill>
              <a:latin typeface="Arial"/>
            </a:endParaRPr>
          </a:p>
          <a:p>
            <a:pPr lvl="1" marL="371520" indent="-181080">
              <a:spcBef>
                <a:spcPts val="60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detailliert die Gründe für die Herausnahme aus der Sozialauswahl</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87708D-A704-4727-AD0D-90B60D9CF61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rategien zur rechtssicheren betriebsbedingten Beendigung</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B88453-56FB-4A59-AAC8-EE26C25C6A9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enkbare Vorgehensweisen</a:t>
            </a:r>
            <a:endParaRPr b="1" lang="en-US" sz="2800" spc="-1" strike="noStrike">
              <a:solidFill>
                <a:srgbClr val="000000"/>
              </a:solidFill>
              <a:latin typeface="Arial"/>
            </a:endParaRPr>
          </a:p>
        </p:txBody>
      </p:sp>
      <p:sp>
        <p:nvSpPr>
          <p:cNvPr id="26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ndividual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fheb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zicht auf Erhebung einer Kündigungsschutz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wicklungsvertra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rgehen nach § 1a KSchG</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iziertes Vorgehen nach § 1a KSchG</a:t>
            </a:r>
            <a:endParaRPr b="0" lang="en-US" sz="2000" spc="-1" strike="noStrike">
              <a:solidFill>
                <a:srgbClr val="000000"/>
              </a:solidFill>
              <a:latin typeface="Arial"/>
            </a:endParaRPr>
          </a:p>
          <a:p>
            <a:pPr lvl="2" marL="6667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Kollektivrechtliche Möglichkei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zialplanleistung nur bei Verzicht auf Klage?</a:t>
            </a:r>
            <a:endParaRPr b="0" lang="en-US" sz="2000" spc="-1" strike="noStrike">
              <a:solidFill>
                <a:srgbClr val="000000"/>
              </a:solidFill>
              <a:latin typeface="Arial"/>
            </a:endParaRPr>
          </a:p>
          <a:p>
            <a:pPr lvl="2" marL="666720" indent="-190440">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triebsvereinbarung mit Turboprämie</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A2DB04D-6DC2-40D6-A825-F1362C7CC57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deutung der Schriftform der Unternehmerentscheidung </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B647AF-1ADC-4614-BD6B-F1FB3042428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fhebungsvertrag</a:t>
            </a:r>
            <a:endParaRPr b="1" lang="en-US" sz="2800" spc="-1" strike="noStrike">
              <a:solidFill>
                <a:srgbClr val="000000"/>
              </a:solidFill>
              <a:latin typeface="Arial"/>
            </a:endParaRPr>
          </a:p>
        </p:txBody>
      </p:sp>
      <p:sp>
        <p:nvSpPr>
          <p:cNvPr id="26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ufhebungsvertrag bedarf nach § 623 BGB der Schriftform.</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Aufklärungspflic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Arbeitgeber treffen jedenfalls dann erhöhte Hinweis- und Aufklärungspflichten, wenn er im betrieblichen Interesse den Abschluss eines Aufhebungsvertrags vorschlägt und dabei den Eindruck erweckt, er werde bei der vorzeitigen Beendigung des Arbeitsverhältnisses auch die Interessen des Arbeitnehmers wahren und ihn nicht ohne ausreichende Aufklärung erheblichen Risiken für den Bestand seines Arbeitsverhältnisses aussetzen.</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G v. 22.4.2004 - 2 AZR 281/03 </a:t>
            </a:r>
            <a:endParaRPr b="0" lang="en-US" sz="16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Sperrfri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perrfrist beim Arbeitslosengeld tritt nicht ein, wenn die Abfindung im Aufhebungsvertrag zwischen 0,25 und 0,5 eines Bruttomonatsentgelts i.S.d. § 9 Abs. 3 KSchG beträ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F64B062-3D86-4623-A40C-CBAE32A89B0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250640" y="9108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erzicht auf Erhebung einer Kündigungsschutzklage</a:t>
            </a:r>
            <a:endParaRPr b="1" lang="en-US" sz="2400" spc="-1" strike="noStrike">
              <a:solidFill>
                <a:srgbClr val="000000"/>
              </a:solidFill>
              <a:latin typeface="Arial"/>
            </a:endParaRPr>
          </a:p>
        </p:txBody>
      </p:sp>
      <p:sp>
        <p:nvSpPr>
          <p:cNvPr id="26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r Arbeitnehmer kann nach erfolgter Kündigung auch vor Ablauf der Drei-Wochen-Frist des § 4 Satz 1 KSchG auf die Erhebung der Kündigungsschutzklage verzichten.</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lageverzichtsvereinbarungen, die im unmittelbaren zeitlichen und sachlichen Zusammenhang mit dem Ausspruch einer Kündigung getroffen werden, sind Auflösungsverträge iSd. § 623 BGB und bedürfen daher der Schriftform. Klageverzichtsvereinbarungen sind Auflösungsverträge.</a:t>
            </a:r>
            <a:endParaRPr b="0" lang="en-US" sz="2000" spc="-1" strike="noStrike">
              <a:solidFill>
                <a:srgbClr val="000000"/>
              </a:solidFill>
              <a:latin typeface="Arial"/>
            </a:endParaRPr>
          </a:p>
          <a:p>
            <a:pPr lvl="1" marL="3715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BAG v. 19.4.2007 - 2 AZR 208/06</a:t>
            </a:r>
            <a:r>
              <a:rPr b="0" lang="en-US" sz="2000" spc="-1" strike="noStrike">
                <a:solidFill>
                  <a:srgbClr val="000000"/>
                </a:solidFill>
                <a:latin typeface="Arial"/>
              </a:rPr>
              <a:t> </a:t>
            </a:r>
            <a:endParaRPr b="0" lang="en-US" sz="20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Dringende Empfehlung:</a:t>
            </a:r>
            <a:r>
              <a:rPr b="0" lang="en-US" sz="2400" spc="-1" strike="noStrike">
                <a:solidFill>
                  <a:srgbClr val="000000"/>
                </a:solidFill>
                <a:latin typeface="Arial"/>
              </a:rPr>
              <a:t> </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chluss einer schriftlichen Vereinbarung!!!!</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4D597AB-AF88-407C-905F-5BB7FF23FCF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Verzicht auf Kündigungsschutzklage</a:t>
            </a:r>
            <a:endParaRPr b="1" lang="en-US" sz="2800" spc="-1" strike="noStrike">
              <a:solidFill>
                <a:srgbClr val="000000"/>
              </a:solidFill>
              <a:latin typeface="Arial"/>
            </a:endParaRPr>
          </a:p>
        </p:txBody>
      </p:sp>
      <p:sp>
        <p:nvSpPr>
          <p:cNvPr id="26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ch § 307 Abs. 1 Satz 1 BGB sind Bestimmungen in Allgemeinen Geschäftsbedingungen unwirksam, wenn sie den Vertragspartner entgegen Treu und Glauben unangemessen benachteiligen. </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ine solche unangemessene Benachteiligung ist regelmäßig anzunehmen, wenn der Arbeitnehmer </a:t>
            </a:r>
            <a:r>
              <a:rPr b="0" lang="en-US" sz="2000" spc="-1" strike="noStrike" u="sng">
                <a:solidFill>
                  <a:srgbClr val="000000"/>
                </a:solidFill>
                <a:uFillTx/>
                <a:latin typeface="Arial"/>
              </a:rPr>
              <a:t>im unmittelbaren Anschluss</a:t>
            </a:r>
            <a:r>
              <a:rPr b="0" lang="en-US" sz="2000" spc="-1" strike="noStrike">
                <a:solidFill>
                  <a:srgbClr val="000000"/>
                </a:solidFill>
                <a:latin typeface="Arial"/>
              </a:rPr>
              <a:t> an eine Arbeitgeberkündigung </a:t>
            </a:r>
            <a:r>
              <a:rPr b="0" lang="en-US" sz="2000" spc="-1" strike="noStrike" u="sng">
                <a:solidFill>
                  <a:srgbClr val="000000"/>
                </a:solidFill>
                <a:uFillTx/>
                <a:latin typeface="Arial"/>
              </a:rPr>
              <a:t>ohne Gegenleistung</a:t>
            </a:r>
            <a:r>
              <a:rPr b="0" lang="en-US" sz="2000" spc="-1" strike="noStrike">
                <a:solidFill>
                  <a:srgbClr val="000000"/>
                </a:solidFill>
                <a:latin typeface="Arial"/>
              </a:rPr>
              <a:t> in einem ihm vom Arbeitgeber vorgelegten Formular auf die Erhebung einer Kündigungsschutzklage verzichtet. Durch einen solchen Klageverzicht wird von der gesetzlichen Regelung des § 4 Satz 1 KSchG abgewichen; ohne Gegenleistung benachteiligt ein solcher formularmäßiger Verzicht den Arbeitnehmer unangemessen. </a:t>
            </a:r>
            <a:br>
              <a:rPr sz="2000"/>
            </a:b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G v. 6.9.2007 - 2 AZR 722/06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EF9766-EBD3-4A5E-BA07-656687C2B00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wicklungsvertrag</a:t>
            </a:r>
            <a:endParaRPr b="1" lang="en-US" sz="2800" spc="-1" strike="noStrike">
              <a:solidFill>
                <a:srgbClr val="000000"/>
              </a:solidFill>
              <a:latin typeface="Arial"/>
            </a:endParaRPr>
          </a:p>
        </p:txBody>
      </p:sp>
      <p:sp>
        <p:nvSpPr>
          <p:cNvPr id="26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 Gegensatz zum Aufhebungsvertrag führt der Abwicklungsvertrag selbst nicht zur Beendigung des Arbeitsverhältnisses. Das Arbeitsverhältnis endet aufgrund einer vorangegangenen Kündigung. Im Abwicklungsvertrag werden lediglich die Modalitäten der Beendigung geregel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 bedarf der Schriftform nach § 623 BGB.</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391EDE-5EBF-4CFF-B26D-5628DCAFC8D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1199880" y="8982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setzlicher Abfindungsanspruch nach § 1a KSchG</a:t>
            </a:r>
            <a:endParaRPr b="1" lang="en-US" sz="2400" spc="-1" strike="noStrike">
              <a:solidFill>
                <a:srgbClr val="000000"/>
              </a:solidFill>
              <a:latin typeface="Arial"/>
            </a:endParaRPr>
          </a:p>
        </p:txBody>
      </p:sp>
      <p:sp>
        <p:nvSpPr>
          <p:cNvPr id="27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in Arbeitnehmer kann nach dem Kündigungsschutzgesetz bei einer betriebsbedingten Kündigung des Arbeitgebers einen gesetzlichen Anspruch auf Abfindung haben.</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r Arbeitgeber ist frei darin, ob er dem Arbeitnehmer ein entsprechendes Angebot macht.</a:t>
            </a: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findungsansprüche aufgrund anderer Vorschriften sind möglich, z. B.</a:t>
            </a:r>
            <a:endParaRPr b="0" lang="en-US" sz="24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arifvertrag</a:t>
            </a: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ozialpla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584F8A-E7D7-4EEE-B565-6F73CE5F4E9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250640" y="923400"/>
            <a:ext cx="7543800" cy="560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raussetzungen des Anspruchs auf Abfindung nach § 1a KSchG</a:t>
            </a:r>
            <a:endParaRPr b="1" lang="en-US" sz="2400" spc="-1" strike="noStrike">
              <a:solidFill>
                <a:srgbClr val="000000"/>
              </a:solidFill>
              <a:latin typeface="Arial"/>
            </a:endParaRPr>
          </a:p>
        </p:txBody>
      </p:sp>
      <p:sp>
        <p:nvSpPr>
          <p:cNvPr id="272"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geber kündigt wegen dringender betrieblicher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fordernisse</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Im Kündigungsschreiben weist er auf den betriebsbedingten</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Kündungsgrund hin</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Er weist ferner darauf hin, dass der Arbeitnehmer bei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Verstreichenlassen der Klagefrist Anspruch auf die Abfindung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nach § 1 a KSchG hat</a:t>
            </a:r>
            <a:br>
              <a:rPr sz="2000"/>
            </a:br>
            <a:endParaRPr b="0" lang="en-US" sz="2000" spc="-1" strike="noStrike">
              <a:solidFill>
                <a:srgbClr val="000000"/>
              </a:solidFill>
              <a:latin typeface="Arial"/>
            </a:endParaRPr>
          </a:p>
          <a:p>
            <a:pPr>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er Arbeitnehmer lässt die Klagefrist von drei Wochen nach </a:t>
            </a: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Zugang der Kündigung ohne Klage verstreich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BFAF4F-D08C-4B29-B3BF-D847BF36103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1263240" y="88596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öhe des Anspruchs auf Abfindung nach § 1a KSchG</a:t>
            </a:r>
            <a:endParaRPr b="1" lang="en-US" sz="2400" spc="-1" strike="noStrike">
              <a:solidFill>
                <a:srgbClr val="000000"/>
              </a:solidFill>
              <a:latin typeface="Arial"/>
            </a:endParaRPr>
          </a:p>
        </p:txBody>
      </p:sp>
      <p:sp>
        <p:nvSpPr>
          <p:cNvPr id="274"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0,5 Monatsverdienste für jedes Jahr des Bestehens des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verhältnisses</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in Zeitraum von mehr als sechs Monaten ist auf ein volles Jah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ufzurunden</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icht geklärt ist bisher, ob bei der Berechnung auf den</a:t>
            </a:r>
            <a:endParaRPr b="0" lang="en-US" sz="20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Zeitpunkt des Zugangs der Kündigung </a:t>
            </a:r>
            <a:r>
              <a:rPr b="0" lang="en-US" sz="1800" spc="-1" strike="noStrike">
                <a:solidFill>
                  <a:srgbClr val="000000"/>
                </a:solidFill>
                <a:latin typeface="Arial"/>
              </a:rPr>
              <a:t>(so LAG Rheinland-</a:t>
            </a:r>
            <a:endParaRPr b="0" lang="en-US" sz="18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alz 16.12.1994 - 3 Sa 761/94)</a:t>
            </a:r>
            <a:r>
              <a:rPr b="0" lang="en-US" sz="2000" spc="-1" strike="noStrike">
                <a:solidFill>
                  <a:srgbClr val="000000"/>
                </a:solidFill>
                <a:latin typeface="Arial"/>
              </a:rPr>
              <a:t> oder des Ablaufs d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Kündigungsfrist abzustellen ist</a:t>
            </a:r>
            <a:br>
              <a:rPr sz="2000"/>
            </a:br>
            <a:endParaRPr b="0" lang="en-US" sz="2000" spc="-1" strike="noStrike">
              <a:solidFill>
                <a:srgbClr val="000000"/>
              </a:solidFill>
              <a:latin typeface="Arial"/>
            </a:endParaRPr>
          </a:p>
          <a:p>
            <a:pPr>
              <a:lnSpc>
                <a:spcPct val="8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ls Monatsverdienst gilt nach § 10 Abs. 3 KSchG, was dem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nehmer nach der für ihn maßgebenden regelmäßig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beitszeit in dem Monat, in dem das Arbeitsverhältnis ende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 Geld und Sachbezügen zusteh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122E5F-EFDE-4CB3-8266-8DBD553ECBE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bfindung entsprechend § 1a KSchG</a:t>
            </a:r>
            <a:endParaRPr b="1" lang="en-US" sz="2800" spc="-1" strike="noStrike">
              <a:solidFill>
                <a:srgbClr val="000000"/>
              </a:solidFill>
              <a:latin typeface="Arial"/>
            </a:endParaRPr>
          </a:p>
        </p:txBody>
      </p:sp>
      <p:sp>
        <p:nvSpPr>
          <p:cNvPr id="276"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Der Arbeitgeber bietet in einem </a:t>
            </a:r>
            <a:r>
              <a:rPr b="0" lang="de-DE" sz="2000" spc="-1" strike="noStrike" u="sng">
                <a:solidFill>
                  <a:srgbClr val="000000"/>
                </a:solidFill>
                <a:uFillTx/>
                <a:latin typeface="Arial"/>
              </a:rPr>
              <a:t>gesonderten</a:t>
            </a:r>
            <a:r>
              <a:rPr b="0" lang="de-DE" sz="2000" spc="-1" strike="noStrike">
                <a:solidFill>
                  <a:srgbClr val="000000"/>
                </a:solidFill>
                <a:latin typeface="Arial"/>
              </a:rPr>
              <a:t> Schreiben zur Kündigung eine zusätzliche Abfindung an, für den Fall, dass der Arbeitnehmer nicht klag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u="sng">
                <a:solidFill>
                  <a:srgbClr val="000000"/>
                </a:solidFill>
                <a:uFillTx/>
                <a:latin typeface="Arial"/>
              </a:rPr>
              <a:t>Achtung:</a:t>
            </a:r>
            <a:r>
              <a:rPr b="0" lang="de-DE" sz="2000" spc="-1" strike="noStrike">
                <a:solidFill>
                  <a:srgbClr val="000000"/>
                </a:solidFill>
                <a:latin typeface="Arial"/>
              </a:rPr>
              <a:t>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Unterbreitet der Arbeitgeber </a:t>
            </a:r>
            <a:r>
              <a:rPr b="0" lang="de-DE" sz="2000" spc="-1" strike="noStrike" u="sng">
                <a:solidFill>
                  <a:srgbClr val="000000"/>
                </a:solidFill>
                <a:uFillTx/>
                <a:latin typeface="Arial"/>
              </a:rPr>
              <a:t>im </a:t>
            </a:r>
            <a:r>
              <a:rPr b="0" lang="de-DE" sz="2000" spc="-1" strike="noStrike">
                <a:solidFill>
                  <a:srgbClr val="000000"/>
                </a:solidFill>
                <a:latin typeface="Arial"/>
              </a:rPr>
              <a:t>Kündigungsschreiben eine unter dem Anspruch nach § 1a KSchG liegende Abfindung, so gilt grds. dennoch die nach § 1a KSchG errechnete Abfindung als geschuldet.</a:t>
            </a:r>
            <a:endParaRPr b="0" lang="en-US" sz="2000" spc="-1" strike="noStrike">
              <a:solidFill>
                <a:srgbClr val="000000"/>
              </a:solidFill>
              <a:latin typeface="Arial"/>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rPr>
              <a:t>BAG 19.6.2007 – 1 AZR 340/06</a:t>
            </a:r>
            <a:endParaRPr b="0" lang="en-US" sz="16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a:solidFill>
                  <a:srgbClr val="000000"/>
                </a:solidFill>
                <a:latin typeface="Arial"/>
              </a:rPr>
              <a:t>Eine Verrechnung mit eventuellen Sozialplanansprüchen wird nicht vorgesehen.</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de-DE" sz="2000" spc="-1" strike="noStrike" u="sng">
                <a:solidFill>
                  <a:srgbClr val="000000"/>
                </a:solidFill>
                <a:uFillTx/>
                <a:latin typeface="Arial"/>
              </a:rPr>
              <a:t>Vorteil:</a:t>
            </a:r>
            <a:r>
              <a:rPr b="0" lang="de-DE" sz="2000" spc="-1" strike="noStrike">
                <a:solidFill>
                  <a:srgbClr val="000000"/>
                </a:solidFill>
                <a:latin typeface="Arial"/>
              </a:rPr>
              <a:t> </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Anreiz für den Arbeitnehmer, nicht zu klagen</a:t>
            </a:r>
            <a:endParaRPr b="0" lang="en-US" sz="2000" spc="-1" strike="noStrike">
              <a:solidFill>
                <a:srgbClr val="000000"/>
              </a:solidFill>
              <a:latin typeface="Arial"/>
            </a:endParaRPr>
          </a:p>
          <a:p>
            <a:pPr>
              <a:lnSpc>
                <a:spcPct val="80000"/>
              </a:lnSpc>
              <a:spcBef>
                <a:spcPts val="4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rPr>
              <a:t> </a:t>
            </a:r>
            <a:r>
              <a:rPr b="0" lang="de-DE" sz="2000" spc="-1" strike="noStrike">
                <a:solidFill>
                  <a:srgbClr val="000000"/>
                </a:solidFill>
                <a:latin typeface="Arial"/>
              </a:rPr>
              <a:t>Die Abfindung nach § 1a KSchG kann unterschritten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E45354-6157-440D-8455-5173041C6E3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8"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ssenentlassungsanzeige</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D91F0E2-EDA5-4CE1-B61F-3B92A45AF6B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49120" y="847800"/>
            <a:ext cx="7543800" cy="560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rundsatz</a:t>
            </a:r>
            <a:endParaRPr b="1" lang="en-US" sz="2800" spc="-1" strike="noStrike">
              <a:solidFill>
                <a:srgbClr val="000000"/>
              </a:solidFill>
              <a:latin typeface="Arial"/>
            </a:endParaRPr>
          </a:p>
        </p:txBody>
      </p:sp>
      <p:sp>
        <p:nvSpPr>
          <p:cNvPr id="280" name="PlaceHolder 2"/>
          <p:cNvSpPr>
            <a:spLocks noGrp="1"/>
          </p:cNvSpPr>
          <p:nvPr>
            <p:ph/>
          </p:nvPr>
        </p:nvSpPr>
        <p:spPr>
          <a:xfrm>
            <a:off x="1158480" y="1436760"/>
            <a:ext cx="7543800" cy="4814640"/>
          </a:xfrm>
          <a:prstGeom prst="rect">
            <a:avLst/>
          </a:prstGeom>
          <a:noFill/>
          <a:ln w="0">
            <a:noFill/>
          </a:ln>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r Arbeitgeber ist verpflichtet, der Agentur für Arbeit Anzeige zu erstatten, bevor er </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in Betrieben mit in der Regel mehr als 20 und weniger als 60 </a:t>
            </a:r>
            <a:br>
              <a:rPr sz="2000"/>
            </a:br>
            <a:r>
              <a:rPr b="0" lang="en-US" sz="2000" spc="-1" strike="noStrike">
                <a:solidFill>
                  <a:srgbClr val="000000"/>
                </a:solidFill>
                <a:latin typeface="Arial"/>
              </a:rPr>
              <a:t>    Arbeitnehmern mehr als 5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in Betrieben mit in der Regel mindestens 60 und weniger als</a:t>
            </a:r>
            <a:br>
              <a:rPr sz="2000"/>
            </a:br>
            <a:r>
              <a:rPr b="0" lang="en-US" sz="2000" spc="-1" strike="noStrike">
                <a:solidFill>
                  <a:srgbClr val="000000"/>
                </a:solidFill>
                <a:latin typeface="Arial"/>
              </a:rPr>
              <a:t>    500 Arbeitnehmern 10 vom Hundert der im Betrieb regelmäßig</a:t>
            </a:r>
            <a:br>
              <a:rPr sz="2000"/>
            </a:br>
            <a:r>
              <a:rPr b="0" lang="en-US" sz="2000" spc="-1" strike="noStrike">
                <a:solidFill>
                  <a:srgbClr val="000000"/>
                </a:solidFill>
                <a:latin typeface="Arial"/>
              </a:rPr>
              <a:t>    beschäftigten Arbeitnehmer oder aber mehr als 25</a:t>
            </a:r>
            <a:br>
              <a:rPr sz="2000"/>
            </a:br>
            <a:r>
              <a:rPr b="0" lang="en-US" sz="2000" spc="-1" strike="noStrike">
                <a:solidFill>
                  <a:srgbClr val="000000"/>
                </a:solidFill>
                <a:latin typeface="Arial"/>
              </a:rPr>
              <a:t>    Arbeitnehmer,</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in Betrieben mit in der Regel mindestens 500 Arbeitnehmern</a:t>
            </a:r>
            <a:br>
              <a:rPr sz="2000"/>
            </a:br>
            <a:r>
              <a:rPr b="0" lang="en-US" sz="2000" spc="-1" strike="noStrike">
                <a:solidFill>
                  <a:srgbClr val="000000"/>
                </a:solidFill>
                <a:latin typeface="Arial"/>
              </a:rPr>
              <a:t>    mindestens 30 Arbeitnehmer innerhalb von 30 Kalendertagen</a:t>
            </a:r>
            <a:br>
              <a:rPr sz="2000"/>
            </a:br>
            <a:r>
              <a:rPr b="0" lang="en-US" sz="2000" spc="-1" strike="noStrike">
                <a:solidFill>
                  <a:srgbClr val="000000"/>
                </a:solidFill>
                <a:latin typeface="Arial"/>
              </a:rPr>
              <a:t>    entläss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 Entlassungen stehen andere Beendigungen des Arbeitsverhältnisses gleich, die vom Arbeitgeber veranlasst werden.</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8C5A3D-666D-413C-AD52-40FF5404A7C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1T11:18:42Z</dcterms:created>
  <dc:creator>bb</dc:creator>
  <dc:description/>
  <dc:language>en-US</dc:language>
  <cp:lastModifiedBy>Sonja Paffenholz</cp:lastModifiedBy>
  <dcterms:modified xsi:type="dcterms:W3CDTF">2009-02-27T09:03:18Z</dcterms:modified>
  <cp:revision>93</cp:revision>
  <dc:subject/>
  <dc:title>Folie 1</dc:title>
</cp:coreProperties>
</file>