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FB3C-5782-4E7D-B95E-C84BF6A0E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EC80-2EB7-453F-A554-B34036121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3C2-A1D2-4A5B-B5A7-60C4ACBBC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54A8-D25E-427C-814C-70A639422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0100-34D5-4923-9134-50EE7F111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CDD4-3C38-48A7-9592-65C4E30CD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C896-F6E5-4CB8-9E5F-8A3C3AF44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EAC6-847C-4232-AEF7-85129624F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C26-38CA-47A3-8E07-399125BDD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31A-366D-427B-877F-86872007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988F-0DAA-47BD-AC36-0E5E575F4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5955-15C5-4B70-A30A-85089B97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7B83-74F9-40F4-B61B-ED884370A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47160" y="650880"/>
            <a:ext cx="547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1 : Patients for vaccination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6080" y="1371600"/>
            <a:ext cx="837828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Category                 N       Endemic area            Clinical status          Circulating filarial                       Mf 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          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ntigen levels (range)                        (ran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U/ml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   (mf/m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crofilaraemics     10       Ellammakandigai        Asymptomatic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347-15111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0-12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F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        Mettupalayam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ondi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hronic Patholog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P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10       Ellammakandigai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mphoedema 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ruvellore, TN, Indi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stages 2-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Thomur, Poond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demic normals     10       Ellammakandigai           Asymptomatic         Not detectabl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     Not detect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EN)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iruvellore, TN, Ind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762120"/>
            <a:ext cx="7315200" cy="47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BLE 2 :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STATISTICAL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values were log transformed to account for skewness in the data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ytokine and antibody levels are represented as geometric mean %  change compared wi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at 3 and 6 months post vaccination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cytokine and antibody data graphs, columns indicate geometric mean of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% chang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line levels 3 and 6 months post vaccination.  Bars indicate 95% confidence interval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culated based on the log transformed value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or  proliferation, cytokine and antibody data, independent samples  were compar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ing non-parametric MannWhitney U Test and paired data were compared us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lcoxon signed rank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0320" y="4800600"/>
            <a:ext cx="8348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 1 : Lymphoproliferative responses of PBMCs from filarial patients stimulated with crud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Bru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malayi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dult antigen (BmA) and Phytohaemagglutinin (PHA).  Values are expressed 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imulation index calculated as  mean cpm of BmA or PHA stimulated cultures / mean cp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stimulated controls.  N=10 in each grou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590920" y="1371600"/>
          <a:ext cx="4419360" cy="3352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1371600"/>
                    <a:ext cx="44193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133720" y="4876920"/>
            <a:ext cx="4435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 2 : Lymphoproliferative responses to Tetanus toxoid in PBMCs of filarial patients vaccinated with a single dose of TT.  Values are mean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SEM.  N= 10 in each grou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828800" y="1219320"/>
          <a:ext cx="5105520" cy="3762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219320"/>
                    <a:ext cx="5105520" cy="37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2604960" y="23004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05520" y="20574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19051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200400" y="2438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41008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267080" y="2133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743920" y="20574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115520" y="160020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20440" y="191916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840" y="16765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3440" y="2133720"/>
            <a:ext cx="404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.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90720" y="476280"/>
            <a:ext cx="739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BMC proliferation stimulated with TT (0, 3 and 6 months post vaccination with T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2209680" y="1371600"/>
            <a:ext cx="4952880" cy="4024440"/>
            <a:chOff x="2209680" y="1371600"/>
            <a:chExt cx="4952880" cy="4024440"/>
          </a:xfrm>
        </p:grpSpPr>
        <p:sp>
          <p:nvSpPr>
            <p:cNvPr id="63" name=""/>
            <p:cNvSpPr/>
            <p:nvPr/>
          </p:nvSpPr>
          <p:spPr>
            <a:xfrm>
              <a:off x="2209680" y="4572000"/>
              <a:ext cx="49528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ig 3 Lymphoproliferative responses to Tetanus toxoid in PBMCs of filarial patients vaccinated with two doses of TT administered one month apart.  Values are mean </a:t>
              </a: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+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SEM.  N= 10 in each group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* p&lt;.0027, ** p&lt;.004;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4" name=""/>
            <p:cNvGraphicFramePr/>
            <p:nvPr/>
          </p:nvGraphicFramePr>
          <p:xfrm>
            <a:off x="2294640" y="1371600"/>
            <a:ext cx="4764960" cy="3047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6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294640" y="1371600"/>
                      <a:ext cx="4764960" cy="3047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6" name=""/>
            <p:cNvSpPr/>
            <p:nvPr/>
          </p:nvSpPr>
          <p:spPr>
            <a:xfrm>
              <a:off x="3955680" y="2786040"/>
              <a:ext cx="244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58240" y="2811240"/>
              <a:ext cx="425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**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5334120" y="898560"/>
            <a:ext cx="3581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 4: Cytokine production by PBMC stimulated with TT following vaccination with 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76560" cy="33526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62520" y="2971800"/>
            <a:ext cx="4857480" cy="33814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373040" y="685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4320" y="3429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12840" y="4572000"/>
            <a:ext cx="34617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umns represent geometric mean 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ange compared with baseline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 and 6 months post vaccin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ars represent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4114800" y="228600"/>
            <a:ext cx="4772160" cy="32004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714840" y="3276720"/>
            <a:ext cx="4819680" cy="32004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0" y="380880"/>
            <a:ext cx="42670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7920" y="0"/>
            <a:ext cx="8575560" cy="6057720"/>
            <a:chOff x="7920" y="0"/>
            <a:chExt cx="8575560" cy="6057720"/>
          </a:xfrm>
        </p:grpSpPr>
        <p:sp>
          <p:nvSpPr>
            <p:cNvPr id="78" name=""/>
            <p:cNvSpPr/>
            <p:nvPr/>
          </p:nvSpPr>
          <p:spPr>
            <a:xfrm>
              <a:off x="7920" y="4572000"/>
              <a:ext cx="346176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lumns represent geometric mean 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 compared with baseline leve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3 and 6 months post vaccination.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ars represent 95% confidence interv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9" name=""/>
            <p:cNvGraphicFramePr/>
            <p:nvPr/>
          </p:nvGraphicFramePr>
          <p:xfrm>
            <a:off x="430200" y="0"/>
            <a:ext cx="4714920" cy="3209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30200" y="0"/>
                      <a:ext cx="4714920" cy="3209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3763800" y="3047760"/>
              <a:ext cx="4819680" cy="3009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2120" y="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276720"/>
            <a:ext cx="4495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lues are Geometric mean % change compared with  baseline levels 3 and 6 months post vaccination with 95% confidence interv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09480" y="1676520"/>
          <a:ext cx="4038840" cy="1447560"/>
        </p:xfrm>
        <a:graphic>
          <a:graphicData uri="http://schemas.openxmlformats.org/drawingml/2006/table">
            <a:tbl>
              <a:tblPr/>
              <a:tblGrid>
                <a:gridCol w="981360"/>
                <a:gridCol w="1606320"/>
                <a:gridCol w="14511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3 (154-35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6 (105-384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7 (95-26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5 (104-29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6 (70-25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9 (72-27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2219760" y="685800"/>
            <a:ext cx="5005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able 3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epatitis B specific Total IgG antibody lev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ollowing vaccination with T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105520" y="1752480"/>
          <a:ext cx="3429000" cy="133992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1066680"/>
                <a:gridCol w="83844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ou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 m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0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6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2.7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.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4968720" y="3381480"/>
            <a:ext cx="3786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 are median Hep sp Total IgG antibod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vels IU/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22:07:03Z</dcterms:created>
  <dc:creator>Toshiba</dc:creator>
  <dc:description/>
  <dc:language>en-US</dc:language>
  <cp:lastModifiedBy>rbn</cp:lastModifiedBy>
  <dcterms:modified xsi:type="dcterms:W3CDTF">2002-11-04T19:47:14Z</dcterms:modified>
  <cp:revision>53</cp:revision>
  <dc:subject/>
  <dc:title>PowerPoint Presentation</dc:title>
</cp:coreProperties>
</file>