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D5327-AAD5-4182-8672-A6C8A200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0043-6FC9-416A-A133-ACD27A830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7F5F-6771-4813-BED4-3570239F9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1358-833C-4273-A77E-F72E85F18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38A-5B05-4426-95CA-B3CE2DF3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CEC3-0448-4F99-8C81-18035E89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CDA8-2A88-45CF-B68E-54F0F9C95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456C-D545-4CCA-9601-18171743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E83E-286B-4C15-A1A7-30FBC0685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E942-AE92-47F2-ADA4-09B646C3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4111-0FC7-4F62-B522-5E5500B4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1C53-C558-480C-AF6D-AB5C89D1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53AC5-A2BA-4080-8182-2C9146C2071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ond Slide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arenR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ust a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out any para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8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first line c)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ff0000"/>
              </a:buClr>
              <a:buFont typeface="Arial"/>
              <a:buAutoNum type="alpha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paragraph second line d)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ex Nikiforov</cp:lastModifiedBy>
  <cp:lastPrinted>2012-10-07T03:46:45Z</cp:lastPrinted>
  <dcterms:modified xsi:type="dcterms:W3CDTF">2012-10-08T03:47:06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