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2DC1-4625-4111-BCD3-082D80A08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D04E-FE79-4E21-9D55-6FD7B724E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9136-B482-4026-938E-E24D75BCB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ACE0-42FF-4BCE-AE71-B51F142F7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4C4D-AF71-46A3-9549-2F491237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5065-8C3A-4F2F-A5EA-D55785C9F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52BC-830D-4A5E-8618-A8070B4F0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1D9B-576A-41AC-94C9-5A6B689B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2EF34-8600-41D2-9FD4-0A7A60981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9952-B4D9-4B4E-86A1-ECCF09A56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D8DA-4410-4777-9419-12F602969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03AB-FFAE-4217-A31A-307F301C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10E9-1ED0-431B-A990-E8674856A350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ate Placeholder 3"/>
          <p:cNvSpPr/>
          <p:nvPr/>
        </p:nvSpPr>
        <p:spPr>
          <a:xfrm>
            <a:off x="603360" y="45720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6913C-851B-4E4F-B086-F77C44A603A2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3"/>
          <p:cNvSpPr/>
          <p:nvPr/>
        </p:nvSpPr>
        <p:spPr>
          <a:xfrm>
            <a:off x="603360" y="838080"/>
            <a:ext cx="2741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DD32-A6CA-489F-84AC-B76A2F61115D}" type="datetime2">
              <a:rPr b="0" lang="de-DE" sz="1200" spc="-1" strike="noStrike">
                <a:solidFill>
                  <a:srgbClr val="898989"/>
                </a:solidFill>
                <a:latin typeface="Calibri"/>
              </a:rPr>
              <a:t>Dienstag, 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Date Placeholder 3"/>
          <p:cNvSpPr/>
          <p:nvPr/>
        </p:nvSpPr>
        <p:spPr>
          <a:xfrm>
            <a:off x="603360" y="121752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35E5-0046-4B07-AEB3-D270B532F916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Date Placeholder 3"/>
          <p:cNvSpPr/>
          <p:nvPr/>
        </p:nvSpPr>
        <p:spPr>
          <a:xfrm>
            <a:off x="603360" y="1598760"/>
            <a:ext cx="2741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07B15-13C6-4B25-ADB1-03E310494BEF}" type="datetime3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i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Date Placeholder 3"/>
          <p:cNvSpPr/>
          <p:nvPr/>
        </p:nvSpPr>
        <p:spPr>
          <a:xfrm>
            <a:off x="603360" y="197964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5D2E9-8C94-4D35-97BE-2A64315B7ECD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Date Placeholder 3"/>
          <p:cNvSpPr/>
          <p:nvPr/>
        </p:nvSpPr>
        <p:spPr>
          <a:xfrm>
            <a:off x="603360" y="2360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1939-3ADE-42CB-B6E8-BBF2DBF5139C}" type="datetime5">
              <a:rPr b="0" lang="de-DE" sz="1200" spc="-1" strike="noStrike">
                <a:solidFill>
                  <a:srgbClr val="898989"/>
                </a:solidFill>
                <a:latin typeface="Calibri"/>
              </a:rPr>
              <a:t>28. Jul 20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ate Placeholder 3"/>
          <p:cNvSpPr/>
          <p:nvPr/>
        </p:nvSpPr>
        <p:spPr>
          <a:xfrm>
            <a:off x="603360" y="2739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DB35-04C7-4BF6-8833-83F88D936759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ate Placeholder 3"/>
          <p:cNvSpPr/>
          <p:nvPr/>
        </p:nvSpPr>
        <p:spPr>
          <a:xfrm>
            <a:off x="603360" y="3121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4405-CE4F-4703-80D3-3BAEEEE9BC4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4CC9B0E-E070-4BB0-B8AA-F30D484F7EF5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5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603360" y="350208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0B6AB-9C67-4ED5-9E8F-FD3B0919A76B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0BB4807-3C34-4773-8FF1-4C94F94965CC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5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603360" y="388296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D026-825D-4F5E-8E24-BFB833E40020}" type="datetime10">
              <a:rPr b="0" lang="de-DE" sz="1200" spc="-1" strike="noStrike">
                <a:solidFill>
                  <a:srgbClr val="898989"/>
                </a:solidFill>
                <a:latin typeface="Calibri"/>
              </a:rPr>
              <a:t>05:53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Date Placeholder 3"/>
          <p:cNvSpPr/>
          <p:nvPr/>
        </p:nvSpPr>
        <p:spPr>
          <a:xfrm>
            <a:off x="603360" y="426420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AE1B8-1372-42FF-B59B-FBF9FA1F53AF}" type="datetime11">
              <a:rPr b="0" lang="de-DE" sz="1200" spc="-1" strike="noStrike">
                <a:solidFill>
                  <a:srgbClr val="898989"/>
                </a:solidFill>
                <a:latin typeface="Calibri"/>
              </a:rPr>
              <a:t>05:53:10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Date Placeholder 3"/>
          <p:cNvSpPr/>
          <p:nvPr/>
        </p:nvSpPr>
        <p:spPr>
          <a:xfrm>
            <a:off x="603360" y="4643280"/>
            <a:ext cx="2743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5DFF-F10A-4C1E-82EB-46503B325E6B}" type="datetime12">
              <a:rPr b="0" lang="de-DE" sz="1200" spc="-1" strike="noStrike">
                <a:solidFill>
                  <a:srgbClr val="898989"/>
                </a:solidFill>
                <a:latin typeface="Calibri"/>
              </a:rPr>
              <a:t>05:53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Date Placeholder 3"/>
          <p:cNvSpPr/>
          <p:nvPr/>
        </p:nvSpPr>
        <p:spPr>
          <a:xfrm>
            <a:off x="603360" y="5024520"/>
            <a:ext cx="2743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91BD-2BF2-4576-AA70-A1E7959948CD}" type="datetime13">
              <a:rPr b="0" lang="de-DE" sz="1200" spc="-1" strike="noStrike">
                <a:solidFill>
                  <a:srgbClr val="898989"/>
                </a:solidFill>
                <a:latin typeface="Calibri"/>
              </a:rPr>
              <a:t>05:53:10 vorm.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1-16T18:11:06Z</dcterms:created>
  <dc:creator>kiwiwings</dc:creator>
  <dc:description/>
  <dc:language>en-US</dc:language>
  <cp:lastModifiedBy>kiwiwings</cp:lastModifiedBy>
  <dcterms:modified xsi:type="dcterms:W3CDTF">2021-11-16T18:25:29Z</dcterms:modified>
  <cp:revision>2</cp:revision>
  <dc:subject/>
  <dc:title>PowerPoint Presentation</dc:title>
</cp:coreProperties>
</file>