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307132"/>
        <c:axId val="85821835"/>
      </c:barChart>
      <c:catAx>
        <c:axId val="35307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21835"/>
        <c:crosses val="autoZero"/>
        <c:auto val="1"/>
        <c:lblAlgn val="ctr"/>
        <c:lblOffset val="100"/>
        <c:noMultiLvlLbl val="0"/>
      </c:catAx>
      <c:valAx>
        <c:axId val="85821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07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1D8B-0C71-4D8A-ABA3-8010E417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3CE-8920-46D4-ABCE-F7F09A62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BB5-351A-4A5B-B073-D2DF302A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1CF-8938-4F99-9B1E-757A5FD8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EB9-AAF1-4F6B-8FB9-A9A7238E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8F8-37AE-495A-96BF-12C59032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28B-8C68-44DB-A0B9-E92DF04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5F2-8941-4FA8-AF3D-CC519BB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9EC-163F-426B-8B2C-BCB0950A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10C-EB02-460C-873F-2FC623D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E65-EA56-4C34-BA6E-B6F54DC5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84F-3744-43BB-8BE7-69ED5B47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9ACDF-676C-447D-8B4F-4F6586E37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