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14865"/>
        <c:axId val="86240002"/>
      </c:barChart>
      <c:catAx>
        <c:axId val="758148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40002"/>
        <c:crosses val="autoZero"/>
        <c:auto val="1"/>
        <c:lblAlgn val="ctr"/>
        <c:lblOffset val="100"/>
        <c:noMultiLvlLbl val="0"/>
      </c:catAx>
      <c:valAx>
        <c:axId val="86240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148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851-D886-4D9A-9244-13C05BCA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D99-A3E8-4626-BF6E-014D919C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0A7-7EB7-4368-A1E5-3AF63A34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149-6DFD-47D9-A748-EEBBAD1D8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61C-1D97-4EB7-892B-457AA523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A90-77A8-43D4-AACF-D4B4E23B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A766-0E36-4322-B6B8-2F8AC383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887-8C5C-46BD-B650-B9C3032C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AAB-8F4F-4363-BA6C-97461B50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167A-203D-4FEF-9B9E-12638E0F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599-77F8-49F5-AFEE-18281B3B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4BAD-4D0F-495F-A585-16028A3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34D19-5D1B-4249-B274-505CAC074A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