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77532"/>
        <c:axId val="16113393"/>
      </c:barChart>
      <c:catAx>
        <c:axId val="46177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13393"/>
        <c:crosses val="autoZero"/>
        <c:auto val="1"/>
        <c:lblAlgn val="ctr"/>
        <c:lblOffset val="100"/>
        <c:noMultiLvlLbl val="0"/>
      </c:catAx>
      <c:valAx>
        <c:axId val="16113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77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15D-5551-4B27-A8FB-E106D187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AFE-7658-49F4-BAF7-DA5D089B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040-0FBE-4B54-AC01-6EB5A2CB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8F1-44E4-4DFF-8338-6443A886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209-FD90-4494-94C5-CF267E75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D8F-7FFF-4282-A402-450E64F0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617-FB63-4AF2-93E2-916964E6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85A-6B95-449A-9E3D-E0CCDC3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2A2-D18E-4F04-ABC9-34FD807A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DA3-19ED-4D85-8C37-9E4F9C61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3FB-03DF-46FB-BD29-10FC491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31C-F12D-4428-936C-1887A031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B9F53-16CB-4727-B52B-9E5CBC37E2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