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23401"/>
        <c:axId val="87665609"/>
      </c:barChart>
      <c:catAx>
        <c:axId val="12223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65609"/>
        <c:crosses val="autoZero"/>
        <c:auto val="1"/>
        <c:lblAlgn val="ctr"/>
        <c:lblOffset val="100"/>
        <c:noMultiLvlLbl val="0"/>
      </c:catAx>
      <c:valAx>
        <c:axId val="87665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23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146-240D-496B-B5A0-17913495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257-D402-42A3-8E6E-DB3EA890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A9A-10AB-4CBE-9E4E-50449C0B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A83-F40B-432D-92AE-990BF32C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DE0-9305-45A3-A9AF-43235419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F10-111B-43A1-B1CC-0C494E42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CB6-3987-4A75-A600-F366EE3C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452-5507-418F-B00B-706170FD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7AC-6658-4F96-9D62-8AAA14C9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D70-F38F-4135-8FE7-C575E57B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CB9-11A5-4C6D-A8AF-7DF53550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6DC-BEF0-4E89-9362-202DF533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FFDBD-A735-486B-BB8E-0CF8155285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