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8248"/>
        <c:axId val="61110814"/>
      </c:barChart>
      <c:catAx>
        <c:axId val="26968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10814"/>
        <c:crosses val="autoZero"/>
        <c:auto val="1"/>
        <c:lblAlgn val="ctr"/>
        <c:lblOffset val="100"/>
        <c:noMultiLvlLbl val="0"/>
      </c:catAx>
      <c:valAx>
        <c:axId val="61110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8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477-2B50-4DC3-89CA-75A331CE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ADC-2555-4088-9E0E-E5A5BE5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D6-5B05-4B5E-9357-DE6702A2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60C-3D2E-468F-962B-675D7A32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C77-15BC-4237-A13E-FC1ACC6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461-7558-4BE7-BFFF-996F445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E48-190F-4A86-BBF1-543D8D9A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3AC-1383-4E83-86EF-EF97CBE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340-6A0E-4597-A9C6-6475918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07E-3D8E-455C-AED6-0B28CF2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6F0-ED74-49A8-9E6A-4E1AD8D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6B8-28B2-4514-B7E2-EB2ECF5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EEFB-9930-44E6-AAC1-9BBCB669DE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