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354920"/>
        <c:axId val="45985496"/>
      </c:barChart>
      <c:catAx>
        <c:axId val="983549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85496"/>
        <c:crosses val="autoZero"/>
        <c:auto val="1"/>
        <c:lblAlgn val="ctr"/>
        <c:lblOffset val="100"/>
        <c:noMultiLvlLbl val="0"/>
      </c:catAx>
      <c:valAx>
        <c:axId val="459854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549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C15B-907D-4027-B9CA-92B1AA89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3ACF-C567-40C5-A7EA-25FEDDB5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CEEC-CAEF-4B47-9948-E681406CD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DF11-2E94-4806-B94F-79FA3373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CC56-D3AB-441A-BE0C-303CF10E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2E9E-5384-4005-B87C-EF38CF2B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65B7-A32C-4742-9BF4-68058BE8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C3B5-AC38-4827-992D-DBABBFCC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B3E1-3C4A-44D6-9893-7F74D837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D3E3-63DA-412C-953B-A6923B3E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B55D-5AFB-4D61-8D35-70D46DC2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11AE-B7F6-461C-941E-C80AB16D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104B0-58C3-44B3-8D5C-96CE545543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