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66698"/>
        <c:axId val="2309471"/>
      </c:barChart>
      <c:catAx>
        <c:axId val="53266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9471"/>
        <c:crosses val="autoZero"/>
        <c:auto val="1"/>
        <c:lblAlgn val="ctr"/>
        <c:lblOffset val="100"/>
        <c:noMultiLvlLbl val="0"/>
      </c:catAx>
      <c:valAx>
        <c:axId val="2309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66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654-2213-4C01-BFB1-3989406B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AE1-A2DF-4901-8C03-0DDF3EE8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A86-C01F-4F91-8046-ED84D092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B42-010B-4FB1-8A46-ED7AEC5B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019-9ED5-43BB-9FDF-5D4235F4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B8B-45B4-41A1-8662-177C1FEB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906-4133-4B27-97C3-DF230639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E8A-0767-4268-BD39-DF5E6831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E34-E68D-4C4D-85C7-565218B0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16F-3F1E-4F69-8279-B3303F17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39E-63A3-4CFE-B265-556C2A51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712-E010-406F-8031-6E45E4AB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144E3-D5D5-4874-BC33-2C96528796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