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21659"/>
        <c:axId val="78535669"/>
      </c:barChart>
      <c:catAx>
        <c:axId val="36216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35669"/>
        <c:crosses val="autoZero"/>
        <c:auto val="1"/>
        <c:lblAlgn val="ctr"/>
        <c:lblOffset val="100"/>
        <c:noMultiLvlLbl val="0"/>
      </c:catAx>
      <c:valAx>
        <c:axId val="785356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16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AF06-42F0-46C2-940C-FCE8984B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F4D2-B3E4-4BCF-83A1-240976B9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F2F4-2FB3-4356-95C9-4F1A0543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6EB-79D0-4701-9721-D370B976D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B625-BCFD-47A6-8C6C-D5C78C84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86E2-B4D1-4B4A-B182-E515B27F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EAA0-ADB2-4D72-9D62-F0061F7D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5374-D880-4AEA-B813-359F71567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F193-B69B-482C-8C1D-3CF948B9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B00-C8E0-4864-9919-DF2E2D5B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2CC-FACD-46BB-90BF-F4010B5D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B684-16E6-42F7-889C-8171A15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944C8-3C77-424E-B0F1-48DA96C34C6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