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59696"/>
        <c:axId val="72223007"/>
      </c:barChart>
      <c:catAx>
        <c:axId val="20559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23007"/>
        <c:crosses val="autoZero"/>
        <c:auto val="1"/>
        <c:lblAlgn val="ctr"/>
        <c:lblOffset val="100"/>
        <c:noMultiLvlLbl val="0"/>
      </c:catAx>
      <c:valAx>
        <c:axId val="72223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59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73F-8786-49F1-8BFA-75D61547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BC1-83AD-417F-9A4A-0F803DE3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301-3112-49A2-8B74-F5696D3D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C27-67D4-4650-97C4-E14BC391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7D6-81A9-47E4-B377-F18E601A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BF5-BF94-4173-9BAD-314F111D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B8A-36E5-48FD-8A72-89819A12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57E-7685-40E0-BE1E-062752F5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94F-BDC7-4570-8603-E11C4A6B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B45-E784-4F30-8BCB-E31D6788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A14-F784-4B55-B205-E0DB188E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D20-E2C8-4E2D-9772-659E33A2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BFE55-40A7-4AB0-BC4D-7F83B7E6B4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